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0.wmf" ContentType="image/x-wmf"/>
  <Override PartName="/ppt/media/image26.jpeg" ContentType="image/jpeg"/>
  <Override PartName="/ppt/media/image9.wmf" ContentType="image/x-wmf"/>
  <Override PartName="/ppt/media/image5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3.jpeg" ContentType="image/jpeg"/>
  <Override PartName="/ppt/media/image24.jpeg" ContentType="image/jpeg"/>
  <Override PartName="/ppt/media/image8.wmf" ContentType="image/x-wmf"/>
  <Override PartName="/ppt/media/image4.jpeg" ContentType="image/jpeg"/>
  <Override PartName="/ppt/media/image25.jpeg" ContentType="image/jpeg"/>
  <Override PartName="/ppt/media/image10.wmf" ContentType="image/x-wmf"/>
  <Override PartName="/ppt/media/image30.jpeg" ContentType="image/jpeg"/>
  <Override PartName="/ppt/media/image7.wmf" ContentType="image/x-wmf"/>
  <Override PartName="/ppt/media/image12.wmf" ContentType="image/x-wmf"/>
  <Override PartName="/ppt/media/image29.jpeg" ContentType="image/jpeg"/>
  <Override PartName="/ppt/media/image18.wmf" ContentType="image/x-wmf"/>
  <Override PartName="/ppt/media/image2.jpeg" ContentType="image/jpeg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13.wmf" ContentType="image/x-wmf"/>
  <Override PartName="/ppt/media/image27.jpeg" ContentType="image/jpeg"/>
  <Override PartName="/ppt/media/image28.jpeg" ContentType="image/jpeg"/>
  <Override PartName="/ppt/media/image2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6F4E-A050-4B8F-90E0-8C6113609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74F9-2B8A-48E8-A4DF-AABF2DA9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FAD8-0818-48B1-B120-D8EBD7FDC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719A-F4A7-404C-9B22-B01E98BC3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DF187-8E50-4983-A1C8-33F064238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62D7-5051-4F69-83A7-08963D3A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84D8-9BB3-4D7F-A832-243F2F21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0D50-DFC4-4FC7-8C8D-C3495C3B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122AA-C5BA-4164-B7C6-66C05F54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EC2E-0C22-40B9-AFAA-8DD2CBA9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CA1D-DCBF-4C69-BA63-A0543204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E168-8519-4A68-A260-180A883F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88E5-383D-46A9-9FCA-11482338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B142-70E8-421D-A6E6-7714006D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C9B6-0DD2-445A-A654-63CCE3E1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7D64-1F8D-4639-9923-BCA8440D2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A9FD-3F37-4EDE-AE10-1F2EC83A0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FCCB-E684-411D-BDFD-74911D28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E183-C2C0-4F4A-80F8-8D2275A6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F828-4182-4B2B-AB00-01943279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892C-A627-4B22-B20D-1A1B7099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2D6E-EB8E-4F04-99D2-05B0AC33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04C1-9689-4099-8CC4-7511CF44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EB04-D642-4AAA-BB1A-5B6366EB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0D1F-D451-42BD-BEBA-341F9AE4D53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5303-9446-4803-A7D6-3236D8559BE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7.wmf"/><Relationship Id="rId12" Type="http://schemas.openxmlformats.org/officeDocument/2006/relationships/image" Target="../media/image7.wmf"/><Relationship Id="rId13" Type="http://schemas.openxmlformats.org/officeDocument/2006/relationships/image" Target="../media/image7.wmf"/><Relationship Id="rId14" Type="http://schemas.openxmlformats.org/officeDocument/2006/relationships/image" Target="../media/image7.wmf"/><Relationship Id="rId15" Type="http://schemas.openxmlformats.org/officeDocument/2006/relationships/image" Target="../media/image7.wmf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wmf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3.wmf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38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Verdana"/>
              </a:rPr>
              <a:t>Sistemas de control suplementario de la contaminación atmosférica: predicción con modelos estadístico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42920" y="4317840"/>
            <a:ext cx="7088400" cy="11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Verdana"/>
              </a:rPr>
              <a:t>José Luis Bermúdez Ce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Verdana"/>
              </a:rPr>
              <a:t>Belén M Fernández de Cast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596360" y="5788080"/>
            <a:ext cx="1368360" cy="890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79280" y="5786280"/>
            <a:ext cx="1914480" cy="88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978200" y="836640"/>
            <a:ext cx="215640" cy="5745240"/>
          </a:xfrm>
          <a:prstGeom prst="rect">
            <a:avLst/>
          </a:prstGeom>
          <a:ln w="19080">
            <a:solidFill>
              <a:srgbClr val="ff9900"/>
            </a:solidFill>
            <a:miter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547640" y="836640"/>
            <a:ext cx="648000" cy="5761080"/>
          </a:xfrm>
          <a:prstGeom prst="rect">
            <a:avLst/>
          </a:prstGeom>
          <a:ln w="19080">
            <a:solidFill>
              <a:srgbClr val="ff9900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1258920" y="836640"/>
            <a:ext cx="1368360" cy="5761080"/>
          </a:xfrm>
          <a:prstGeom prst="rect">
            <a:avLst/>
          </a:prstGeom>
          <a:ln w="19080">
            <a:solidFill>
              <a:srgbClr val="ff9900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1042920" y="836640"/>
            <a:ext cx="1944720" cy="5761080"/>
          </a:xfrm>
          <a:prstGeom prst="rect">
            <a:avLst/>
          </a:prstGeom>
          <a:ln w="19080">
            <a:solidFill>
              <a:srgbClr val="ff9900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826920" y="836640"/>
            <a:ext cx="2737080" cy="5761080"/>
          </a:xfrm>
          <a:prstGeom prst="rect">
            <a:avLst/>
          </a:prstGeom>
          <a:ln w="19080">
            <a:solidFill>
              <a:srgbClr val="ff9900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684360" y="836640"/>
            <a:ext cx="3311280" cy="5761080"/>
          </a:xfrm>
          <a:prstGeom prst="rect">
            <a:avLst/>
          </a:prstGeom>
          <a:ln w="19080">
            <a:solidFill>
              <a:srgbClr val="ff9900"/>
            </a:solidFill>
            <a:miter/>
          </a:ln>
        </p:spPr>
      </p:pic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>
            <a:off x="539640" y="836640"/>
            <a:ext cx="4032360" cy="5761080"/>
          </a:xfrm>
          <a:prstGeom prst="rect">
            <a:avLst/>
          </a:prstGeom>
          <a:ln w="19080">
            <a:solidFill>
              <a:srgbClr val="ff9900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9"/>
          <a:stretch/>
        </p:blipFill>
        <p:spPr>
          <a:xfrm>
            <a:off x="395280" y="836640"/>
            <a:ext cx="4897440" cy="5761080"/>
          </a:xfrm>
          <a:prstGeom prst="rect">
            <a:avLst/>
          </a:prstGeom>
          <a:ln w="19080">
            <a:solidFill>
              <a:srgbClr val="ff9900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10"/>
          <a:stretch/>
        </p:blipFill>
        <p:spPr>
          <a:xfrm>
            <a:off x="395280" y="836640"/>
            <a:ext cx="5400720" cy="5761080"/>
          </a:xfrm>
          <a:prstGeom prst="rect">
            <a:avLst/>
          </a:prstGeom>
          <a:ln w="19080">
            <a:solidFill>
              <a:srgbClr val="ff9900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11"/>
          <a:stretch/>
        </p:blipFill>
        <p:spPr>
          <a:xfrm>
            <a:off x="324000" y="836640"/>
            <a:ext cx="6048360" cy="5761080"/>
          </a:xfrm>
          <a:prstGeom prst="rect">
            <a:avLst/>
          </a:prstGeom>
          <a:ln w="19080">
            <a:solidFill>
              <a:srgbClr val="ff9900"/>
            </a:solidFill>
            <a:miter/>
          </a:ln>
        </p:spPr>
      </p:pic>
      <p:pic>
        <p:nvPicPr>
          <p:cNvPr id="151" name="" descr=""/>
          <p:cNvPicPr/>
          <p:nvPr/>
        </p:nvPicPr>
        <p:blipFill>
          <a:blip r:embed="rId12"/>
          <a:stretch/>
        </p:blipFill>
        <p:spPr>
          <a:xfrm>
            <a:off x="250920" y="836640"/>
            <a:ext cx="6769080" cy="5761080"/>
          </a:xfrm>
          <a:prstGeom prst="rect">
            <a:avLst/>
          </a:prstGeom>
          <a:ln w="19080">
            <a:solidFill>
              <a:srgbClr val="ff9900"/>
            </a:solidFill>
            <a:miter/>
          </a:ln>
        </p:spPr>
      </p:pic>
      <p:pic>
        <p:nvPicPr>
          <p:cNvPr id="152" name="" descr=""/>
          <p:cNvPicPr/>
          <p:nvPr/>
        </p:nvPicPr>
        <p:blipFill>
          <a:blip r:embed="rId13"/>
          <a:stretch/>
        </p:blipFill>
        <p:spPr>
          <a:xfrm>
            <a:off x="250920" y="836640"/>
            <a:ext cx="7416720" cy="5761080"/>
          </a:xfrm>
          <a:prstGeom prst="rect">
            <a:avLst/>
          </a:prstGeom>
          <a:ln w="19080">
            <a:solidFill>
              <a:srgbClr val="ff9900"/>
            </a:solidFill>
            <a:miter/>
          </a:ln>
        </p:spPr>
      </p:pic>
      <p:pic>
        <p:nvPicPr>
          <p:cNvPr id="153" name="" descr=""/>
          <p:cNvPicPr/>
          <p:nvPr/>
        </p:nvPicPr>
        <p:blipFill>
          <a:blip r:embed="rId14"/>
          <a:stretch/>
        </p:blipFill>
        <p:spPr>
          <a:xfrm>
            <a:off x="250920" y="836640"/>
            <a:ext cx="7993080" cy="5761080"/>
          </a:xfrm>
          <a:prstGeom prst="rect">
            <a:avLst/>
          </a:prstGeom>
          <a:ln w="19080">
            <a:solidFill>
              <a:srgbClr val="ff9900"/>
            </a:solidFill>
            <a:miter/>
          </a:ln>
        </p:spPr>
      </p:pic>
      <p:pic>
        <p:nvPicPr>
          <p:cNvPr id="154" name="" descr=""/>
          <p:cNvPicPr/>
          <p:nvPr/>
        </p:nvPicPr>
        <p:blipFill>
          <a:blip r:embed="rId15"/>
          <a:stretch/>
        </p:blipFill>
        <p:spPr>
          <a:xfrm>
            <a:off x="250920" y="836640"/>
            <a:ext cx="8569080" cy="5761080"/>
          </a:xfrm>
          <a:prstGeom prst="rect">
            <a:avLst/>
          </a:prstGeom>
          <a:ln w="19080">
            <a:solidFill>
              <a:srgbClr val="ff99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1908000" y="44280"/>
            <a:ext cx="720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5ffff"/>
                </a:solidFill>
                <a:latin typeface="Verdana"/>
              </a:rPr>
              <a:t>Sistemas de control suplementario de la contaminación atmosférica: predicción con modelos estadísti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9280" y="6610320"/>
            <a:ext cx="89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5ffff"/>
                </a:solidFill>
                <a:latin typeface="Verdana"/>
              </a:rPr>
              <a:t>CEIOME’05, A Coruñ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2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4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6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8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2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4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6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8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2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50920" y="852480"/>
            <a:ext cx="8569080" cy="574524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159" name=""/>
          <p:cNvSpPr/>
          <p:nvPr/>
        </p:nvSpPr>
        <p:spPr>
          <a:xfrm>
            <a:off x="1908000" y="44280"/>
            <a:ext cx="720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5ffff"/>
                </a:solidFill>
                <a:latin typeface="Verdana"/>
              </a:rPr>
              <a:t>Sistemas de control suplementario de la contaminación atmosférica: predicción con modelos estadísti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9280" y="6610320"/>
            <a:ext cx="89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5ffff"/>
                </a:solidFill>
                <a:latin typeface="Verdana"/>
              </a:rPr>
              <a:t>CEIOME’05, A Coruñ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32000" y="2782800"/>
            <a:ext cx="691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spcBef>
                <a:spcPts val="1250"/>
              </a:spcBef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a instalación necesita disponer de información, al menos, con </a:t>
            </a:r>
            <a:r>
              <a:rPr b="1" i="1" lang="en-US" sz="2000" spc="-1" strike="noStrike">
                <a:solidFill>
                  <a:srgbClr val="ffcc00"/>
                </a:solidFill>
                <a:latin typeface="Verdana"/>
              </a:rPr>
              <a:t>½ hora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de antel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907920"/>
            <a:ext cx="820728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incipal objetiv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Verdana"/>
              </a:rPr>
              <a:t>prevenir episodios de alteración de la calidad del ai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4581360"/>
            <a:ext cx="8207280" cy="16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olució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Verdana"/>
              </a:rPr>
              <a:t>Herramientas de predicción de valores de SO</a:t>
            </a:r>
            <a:r>
              <a:rPr b="1" i="1" lang="en-US" sz="2000" spc="-1" strike="noStrike" baseline="-25000">
                <a:solidFill>
                  <a:srgbClr val="ffcc00"/>
                </a:solidFill>
                <a:latin typeface="Verdana"/>
              </a:rPr>
              <a:t>2</a:t>
            </a:r>
            <a:r>
              <a:rPr b="1" i="1" lang="en-US" sz="2000" spc="-1" strike="noStrike">
                <a:solidFill>
                  <a:srgbClr val="ffcc00"/>
                </a:solidFill>
                <a:latin typeface="Verdana"/>
              </a:rPr>
              <a:t>, en media horaria, basados en modelos estadíst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08000" y="44280"/>
            <a:ext cx="720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5ffff"/>
                </a:solidFill>
                <a:latin typeface="Verdana"/>
              </a:rPr>
              <a:t>Sistemas de control suplementario de la contaminación atmosférica: predicción con modelos estadísti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9280" y="6610320"/>
            <a:ext cx="89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5ffff"/>
                </a:solidFill>
                <a:latin typeface="Verdana"/>
              </a:rPr>
              <a:t>CEIOME’05, A Coruñ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719280" y="790560"/>
            <a:ext cx="820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as </a:t>
            </a:r>
            <a:r>
              <a:rPr b="1" i="1" lang="en-US" sz="2000" spc="-1" strike="noStrike">
                <a:solidFill>
                  <a:srgbClr val="ffcc00"/>
                </a:solidFill>
                <a:latin typeface="Verdana"/>
              </a:rPr>
              <a:t>diferentes metodología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utilizadas han aportado soluciones desde varios puntos de vist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55640" y="2338920"/>
            <a:ext cx="58327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>
              <a:lnSpc>
                <a:spcPct val="150000"/>
              </a:lnSpc>
              <a:spcBef>
                <a:spcPts val="1250"/>
              </a:spcBef>
              <a:buClr>
                <a:srgbClr val="ffcc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dicción pun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50000"/>
              </a:lnSpc>
              <a:spcBef>
                <a:spcPts val="1250"/>
              </a:spcBef>
              <a:buClr>
                <a:srgbClr val="ffcc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dicción probabilís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50000"/>
              </a:lnSpc>
              <a:spcBef>
                <a:spcPts val="1250"/>
              </a:spcBef>
              <a:buClr>
                <a:srgbClr val="ffcc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dicción espa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450720">
              <a:lnSpc>
                <a:spcPct val="150000"/>
              </a:lnSpc>
              <a:spcBef>
                <a:spcPts val="1250"/>
              </a:spcBef>
              <a:buClr>
                <a:srgbClr val="ffcc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dicción fun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08000" y="44280"/>
            <a:ext cx="720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5ffff"/>
                </a:solidFill>
                <a:latin typeface="Verdana"/>
              </a:rPr>
              <a:t>Sistemas de control suplementario de la contaminación atmosférica: predicción con modelos estadísti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79280" y="6610320"/>
            <a:ext cx="89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5ffff"/>
                </a:solidFill>
                <a:latin typeface="Verdana"/>
              </a:rPr>
              <a:t>CEIOME’05, A Coruñ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19280" y="790560"/>
            <a:ext cx="8207280" cy="16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Verdana"/>
              </a:rPr>
              <a:t>I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Predicción pun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te planteamiento nos permite dar como respuesta la predicción del nivel de 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08000" y="44280"/>
            <a:ext cx="720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5ffff"/>
                </a:solidFill>
                <a:latin typeface="Verdana"/>
              </a:rPr>
              <a:t>Sistemas de control suplementario de la contaminación atmosférica: predicción con modelos estadísti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352520" y="2492280"/>
            <a:ext cx="6459480" cy="401652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177" name=""/>
          <p:cNvSpPr/>
          <p:nvPr/>
        </p:nvSpPr>
        <p:spPr>
          <a:xfrm>
            <a:off x="179280" y="6610320"/>
            <a:ext cx="89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5ffff"/>
                </a:solidFill>
                <a:latin typeface="Verdana"/>
              </a:rPr>
              <a:t>CEIOME’05, A Coruñ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719280" y="790560"/>
            <a:ext cx="820728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Verdana"/>
              </a:rPr>
              <a:t>I.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Predicción pun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Modelos utilizad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250"/>
              </a:spcBef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emiparamétr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250"/>
              </a:spcBef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Parcialmente Line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250"/>
              </a:spcBef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Redes Neuro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348000" y="5611680"/>
          <a:ext cx="4402080" cy="841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48000" y="5611680"/>
                    <a:ext cx="4402080" cy="8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3348000" y="2225520"/>
          <a:ext cx="3581280" cy="482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48000" y="2225520"/>
                    <a:ext cx="358128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2319480" y="2800440"/>
          <a:ext cx="4289400" cy="419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319480" y="2800440"/>
                    <a:ext cx="42894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2292480" y="3303720"/>
          <a:ext cx="5075280" cy="444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92480" y="3303720"/>
                    <a:ext cx="507528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1908000" y="44280"/>
            <a:ext cx="720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5ffff"/>
                </a:solidFill>
                <a:latin typeface="Verdana"/>
              </a:rPr>
              <a:t>Sistemas de control suplementario de la contaminación atmosférica: predicción con modelos estadísti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9280" y="6610320"/>
            <a:ext cx="89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5ffff"/>
                </a:solidFill>
                <a:latin typeface="Verdana"/>
              </a:rPr>
              <a:t>CEIOME’05, A Coruñ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719280" y="790560"/>
            <a:ext cx="8207280" cy="16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Verdana"/>
              </a:rPr>
              <a:t>II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Predicción probabilís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a utilización del modelo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GGAM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nos permite dar como respuesta la probabilidad de superar un cierto nivel de 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08000" y="44280"/>
            <a:ext cx="720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5ffff"/>
                </a:solidFill>
                <a:latin typeface="Verdana"/>
              </a:rPr>
              <a:t>Sistemas de control suplementario de la contaminación atmosférica: predicción con modelos estadísti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352520" y="2494080"/>
            <a:ext cx="6473880" cy="402408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  <p:sp>
        <p:nvSpPr>
          <p:cNvPr id="194" name=""/>
          <p:cNvSpPr/>
          <p:nvPr/>
        </p:nvSpPr>
        <p:spPr>
          <a:xfrm>
            <a:off x="179280" y="6610320"/>
            <a:ext cx="89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5ffff"/>
                </a:solidFill>
                <a:latin typeface="Verdana"/>
              </a:rPr>
              <a:t>CEIOME’05, A Coruñ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719280" y="790560"/>
            <a:ext cx="820728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Verdana"/>
              </a:rPr>
              <a:t>II.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Predicción probabilís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l objetivo es predeci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iendo </a:t>
            </a: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" sz="2000" spc="-1" strike="noStrike" baseline="-25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la variable bin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3129120" y="2133720"/>
          <a:ext cx="288288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29120" y="2133720"/>
                    <a:ext cx="28828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3851280" y="3332160"/>
          <a:ext cx="1460520" cy="457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51280" y="3332160"/>
                    <a:ext cx="14605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1908000" y="44280"/>
            <a:ext cx="720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5ffff"/>
                </a:solidFill>
                <a:latin typeface="Verdana"/>
              </a:rPr>
              <a:t>Sistemas de control suplementario de la contaminación atmosférica: predicción con modelos estadísti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9280" y="6610320"/>
            <a:ext cx="89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5ffff"/>
                </a:solidFill>
                <a:latin typeface="Verdana"/>
              </a:rPr>
              <a:t>CEIOME’05, A Coruñ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19280" y="790560"/>
            <a:ext cx="8207280" cy="21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Verdana"/>
              </a:rPr>
              <a:t>III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Predicción espa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os modelos de predicción espacial nos permiten construir una superficie de predicción de niveles de 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para el entorno de la instal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08000" y="44280"/>
            <a:ext cx="720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5ffff"/>
                </a:solidFill>
                <a:latin typeface="Verdana"/>
              </a:rPr>
              <a:t>Sistemas de control suplementario de la contaminación atmosférica: predicción con modelos estadísti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9280" y="6610320"/>
            <a:ext cx="89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5ffff"/>
                </a:solidFill>
                <a:latin typeface="Verdana"/>
              </a:rPr>
              <a:t>CEIOME’05, A Coruñ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2252520" y="2820960"/>
            <a:ext cx="4638960" cy="38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719280" y="790560"/>
            <a:ext cx="8207280" cy="16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Verdana"/>
              </a:rPr>
              <a:t>IV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Predicción fun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os modelos funcionales permiten dar como respuesta la curva completa de niveles de 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para un horizonte determin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908000" y="44280"/>
            <a:ext cx="720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5ffff"/>
                </a:solidFill>
                <a:latin typeface="Verdana"/>
              </a:rPr>
              <a:t>Sistemas de control suplementario de la contaminación atmosférica: predicción con modelos estadísti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9280" y="6610320"/>
            <a:ext cx="89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5ffff"/>
                </a:solidFill>
                <a:latin typeface="Verdana"/>
              </a:rPr>
              <a:t>CEIOME’05, A Coruñ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276200" y="2925720"/>
            <a:ext cx="6535800" cy="3672000"/>
          </a:xfrm>
          <a:prstGeom prst="rect">
            <a:avLst/>
          </a:prstGeom>
          <a:ln w="19080">
            <a:solidFill>
              <a:srgbClr val="ffcc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08000" y="44280"/>
            <a:ext cx="720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5ffff"/>
                </a:solidFill>
                <a:latin typeface="Verdana"/>
              </a:rPr>
              <a:t>Sistemas de control suplementario de la contaminación atmosférica: predicción con modelos estadísti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6610320"/>
            <a:ext cx="89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5ffff"/>
                </a:solidFill>
                <a:latin typeface="Verdana"/>
              </a:rPr>
              <a:t>CEIOME’05, A Coruñ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19280" y="1798560"/>
            <a:ext cx="784836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Verdana"/>
              </a:rPr>
              <a:t>Estrategias Posi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Fijación de normas de calidad de aire que no pueden sobrepasar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Control de las emisiones mediante las mejores tecnologías disponi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Verdana"/>
              </a:rPr>
              <a:t>Estrategia Ópti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Control de los nuevos focos mediante las mejores tecnologías disponi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Adaptación progresiva de los focos existentes a las exigencias de los nue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Vigilancia y control de la calidad del ai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19280" y="790560"/>
            <a:ext cx="7619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Estrategias de lucha contra la contaminación atmosfé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719280" y="790560"/>
            <a:ext cx="8207280" cy="54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Verdana"/>
              </a:rPr>
              <a:t>IV.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Predicción fun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Model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Núcleo fun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Autorregresivo de Hilbe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08000" y="44280"/>
            <a:ext cx="720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5ffff"/>
                </a:solidFill>
                <a:latin typeface="Verdana"/>
              </a:rPr>
              <a:t>Sistemas de control suplementario de la contaminación atmosférica: predicción con modelos estadísti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79280" y="6610320"/>
            <a:ext cx="89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5ffff"/>
                </a:solidFill>
                <a:latin typeface="Verdana"/>
              </a:rPr>
              <a:t>CEIOME’05, A Coruñ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195640" y="1557360"/>
          <a:ext cx="2224080" cy="43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95640" y="1557360"/>
                    <a:ext cx="22240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6084720" y="5175360"/>
          <a:ext cx="2376720" cy="485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84720" y="5175360"/>
                    <a:ext cx="237672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3170160" y="5170320"/>
          <a:ext cx="2398680" cy="490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170160" y="5170320"/>
                    <a:ext cx="239868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1763640" y="5299200"/>
          <a:ext cx="892080" cy="361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763640" y="5299200"/>
                    <a:ext cx="89208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2625840" y="2492280"/>
          <a:ext cx="3746520" cy="1803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625840" y="2492280"/>
                    <a:ext cx="374652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843280" y="1628640"/>
            <a:ext cx="5832360" cy="48247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ffff"/>
                </a:solidFill>
                <a:latin typeface="Verdana"/>
              </a:rPr>
              <a:t>SIPE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08000" y="44280"/>
            <a:ext cx="720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5ffff"/>
                </a:solidFill>
                <a:latin typeface="Verdana"/>
              </a:rPr>
              <a:t>Sistemas de control suplementario de la contaminación atmosférica: predicción con modelos estadísti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79280" y="6610320"/>
            <a:ext cx="89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5ffff"/>
                </a:solidFill>
                <a:latin typeface="Verdana"/>
              </a:rPr>
              <a:t>CEIOME’05, A Coruñ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19280" y="790560"/>
            <a:ext cx="80294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Integración de los sistemas de predic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59280" y="5373720"/>
            <a:ext cx="1944720" cy="576360"/>
          </a:xfrm>
          <a:prstGeom prst="roundRect">
            <a:avLst>
              <a:gd name="adj" fmla="val 16667"/>
            </a:avLst>
          </a:prstGeom>
          <a:solidFill>
            <a:srgbClr val="336699"/>
          </a:solidFill>
          <a:ln w="1908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Verdana"/>
              </a:rPr>
              <a:t>Result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788000" y="2276640"/>
            <a:ext cx="2089080" cy="576000"/>
          </a:xfrm>
          <a:prstGeom prst="roundRect">
            <a:avLst>
              <a:gd name="adj" fmla="val 16667"/>
            </a:avLst>
          </a:prstGeom>
          <a:solidFill>
            <a:srgbClr val="336699"/>
          </a:solidFill>
          <a:ln w="1908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Verdana"/>
              </a:rPr>
              <a:t>Recoge da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40360" y="3429000"/>
            <a:ext cx="1584360" cy="1152360"/>
          </a:xfrm>
          <a:prstGeom prst="roundRect">
            <a:avLst>
              <a:gd name="adj" fmla="val 16667"/>
            </a:avLst>
          </a:prstGeom>
          <a:solidFill>
            <a:srgbClr val="336699"/>
          </a:solidFill>
          <a:ln w="1908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Verdana"/>
              </a:rPr>
              <a:t>Predicción Bin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948360" y="3465360"/>
            <a:ext cx="1584360" cy="1079640"/>
          </a:xfrm>
          <a:prstGeom prst="roundRect">
            <a:avLst>
              <a:gd name="adj" fmla="val 16667"/>
            </a:avLst>
          </a:prstGeom>
          <a:solidFill>
            <a:srgbClr val="336699"/>
          </a:solidFill>
          <a:ln w="1908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Verdana"/>
              </a:rPr>
              <a:t>Predicción Espa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132000" y="3429000"/>
            <a:ext cx="1584360" cy="1152360"/>
          </a:xfrm>
          <a:prstGeom prst="roundRect">
            <a:avLst>
              <a:gd name="adj" fmla="val 16667"/>
            </a:avLst>
          </a:prstGeom>
          <a:solidFill>
            <a:srgbClr val="336699"/>
          </a:solidFill>
          <a:ln w="1908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Verdana"/>
              </a:rPr>
              <a:t>Predicción Punt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8360" y="1413000"/>
            <a:ext cx="2016000" cy="1296720"/>
          </a:xfrm>
          <a:prstGeom prst="roundRect">
            <a:avLst>
              <a:gd name="adj" fmla="val 16667"/>
            </a:avLst>
          </a:prstGeom>
          <a:solidFill>
            <a:srgbClr val="336699"/>
          </a:solidFill>
          <a:ln w="1908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Verdana"/>
              </a:rPr>
              <a:t>MED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Verdana"/>
              </a:rPr>
              <a:t>Crea archivos de da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7" idx="3"/>
            <a:endCxn id="233" idx="1"/>
          </p:cNvCxnSpPr>
          <p:nvPr/>
        </p:nvCxnSpPr>
        <p:spPr>
          <a:xfrm>
            <a:off x="2493720" y="2062080"/>
            <a:ext cx="2284920" cy="504000"/>
          </a:xfrm>
          <a:prstGeom prst="bentConnector3">
            <a:avLst>
              <a:gd name="adj1" fmla="val 49952"/>
            </a:avLst>
          </a:prstGeom>
          <a:ln w="19080">
            <a:solidFill>
              <a:srgbClr val="e5ffff"/>
            </a:solidFill>
            <a:miter/>
            <a:tailEnd len="lg" type="triangle" w="lg"/>
          </a:ln>
        </p:spPr>
      </p:cxnSp>
      <p:cxnSp>
        <p:nvCxnSpPr>
          <p:cNvPr id="239" name=""/>
          <p:cNvCxnSpPr>
            <a:stCxn id="233" idx="2"/>
            <a:endCxn id="236" idx="0"/>
          </p:cNvCxnSpPr>
          <p:nvPr/>
        </p:nvCxnSpPr>
        <p:spPr>
          <a:xfrm rot="5400000">
            <a:off x="4599000" y="2187000"/>
            <a:ext cx="558000" cy="1908720"/>
          </a:xfrm>
          <a:prstGeom prst="bentConnector3">
            <a:avLst>
              <a:gd name="adj1" fmla="val 49838"/>
            </a:avLst>
          </a:prstGeom>
          <a:ln w="19080">
            <a:solidFill>
              <a:srgbClr val="e5ffff"/>
            </a:solidFill>
            <a:miter/>
            <a:tailEnd len="lg" type="triangle" w="lg"/>
          </a:ln>
        </p:spPr>
      </p:cxnSp>
      <p:cxnSp>
        <p:nvCxnSpPr>
          <p:cNvPr id="240" name=""/>
          <p:cNvCxnSpPr>
            <a:stCxn id="233" idx="2"/>
            <a:endCxn id="234" idx="0"/>
          </p:cNvCxnSpPr>
          <p:nvPr/>
        </p:nvCxnSpPr>
        <p:spPr>
          <a:xfrm>
            <a:off x="5832000" y="2862360"/>
            <a:ext cx="1080" cy="558000"/>
          </a:xfrm>
          <a:prstGeom prst="straightConnector1">
            <a:avLst/>
          </a:prstGeom>
          <a:ln w="19080">
            <a:solidFill>
              <a:srgbClr val="e5ffff"/>
            </a:solidFill>
            <a:miter/>
            <a:tailEnd len="lg" type="triangle" w="lg"/>
          </a:ln>
        </p:spPr>
      </p:cxnSp>
      <p:cxnSp>
        <p:nvCxnSpPr>
          <p:cNvPr id="241" name=""/>
          <p:cNvCxnSpPr>
            <a:stCxn id="233" idx="2"/>
            <a:endCxn id="235" idx="0"/>
          </p:cNvCxnSpPr>
          <p:nvPr/>
        </p:nvCxnSpPr>
        <p:spPr>
          <a:xfrm flipH="1" rot="16200000">
            <a:off x="6488640" y="2204640"/>
            <a:ext cx="594360" cy="1909080"/>
          </a:xfrm>
          <a:prstGeom prst="bentConnector3">
            <a:avLst>
              <a:gd name="adj1" fmla="val 50000"/>
            </a:avLst>
          </a:prstGeom>
          <a:ln w="19080">
            <a:solidFill>
              <a:srgbClr val="e5ffff"/>
            </a:solidFill>
            <a:miter/>
            <a:tailEnd len="lg" type="triangle" w="lg"/>
          </a:ln>
        </p:spPr>
      </p:cxnSp>
      <p:cxnSp>
        <p:nvCxnSpPr>
          <p:cNvPr id="242" name=""/>
          <p:cNvCxnSpPr>
            <a:stCxn id="236" idx="2"/>
            <a:endCxn id="232" idx="0"/>
          </p:cNvCxnSpPr>
          <p:nvPr/>
        </p:nvCxnSpPr>
        <p:spPr>
          <a:xfrm flipH="1" rot="16200000">
            <a:off x="4491720" y="4023000"/>
            <a:ext cx="773640" cy="1908720"/>
          </a:xfrm>
          <a:prstGeom prst="bentConnector3">
            <a:avLst>
              <a:gd name="adj1" fmla="val 49860"/>
            </a:avLst>
          </a:prstGeom>
          <a:ln w="19080">
            <a:solidFill>
              <a:srgbClr val="e5ffff"/>
            </a:solidFill>
            <a:miter/>
            <a:tailEnd len="lg" type="triangle" w="lg"/>
          </a:ln>
        </p:spPr>
      </p:cxnSp>
      <p:cxnSp>
        <p:nvCxnSpPr>
          <p:cNvPr id="243" name=""/>
          <p:cNvCxnSpPr>
            <a:stCxn id="234" idx="2"/>
            <a:endCxn id="232" idx="0"/>
          </p:cNvCxnSpPr>
          <p:nvPr/>
        </p:nvCxnSpPr>
        <p:spPr>
          <a:xfrm>
            <a:off x="5832000" y="4590720"/>
            <a:ext cx="1080" cy="773640"/>
          </a:xfrm>
          <a:prstGeom prst="straightConnector1">
            <a:avLst/>
          </a:prstGeom>
          <a:ln w="19080">
            <a:solidFill>
              <a:srgbClr val="e5ffff"/>
            </a:solidFill>
            <a:miter/>
            <a:tailEnd len="lg" type="triangle" w="lg"/>
          </a:ln>
        </p:spPr>
      </p:cxnSp>
      <p:cxnSp>
        <p:nvCxnSpPr>
          <p:cNvPr id="244" name=""/>
          <p:cNvCxnSpPr>
            <a:stCxn id="235" idx="2"/>
            <a:endCxn id="232" idx="0"/>
          </p:cNvCxnSpPr>
          <p:nvPr/>
        </p:nvCxnSpPr>
        <p:spPr>
          <a:xfrm rot="5400000">
            <a:off x="6381000" y="4004640"/>
            <a:ext cx="810360" cy="1909080"/>
          </a:xfrm>
          <a:prstGeom prst="bentConnector3">
            <a:avLst>
              <a:gd name="adj1" fmla="val 50000"/>
            </a:avLst>
          </a:prstGeom>
          <a:ln w="19080">
            <a:solidFill>
              <a:srgbClr val="e5ffff"/>
            </a:solidFill>
            <a:miter/>
            <a:tailEnd len="lg" type="triangle" w="lg"/>
          </a:ln>
        </p:spPr>
      </p:cxnSp>
      <p:sp>
        <p:nvSpPr>
          <p:cNvPr id="245" name=""/>
          <p:cNvSpPr/>
          <p:nvPr/>
        </p:nvSpPr>
        <p:spPr>
          <a:xfrm>
            <a:off x="468360" y="5803920"/>
            <a:ext cx="2016000" cy="865080"/>
          </a:xfrm>
          <a:prstGeom prst="roundRect">
            <a:avLst>
              <a:gd name="adj" fmla="val 16667"/>
            </a:avLst>
          </a:prstGeom>
          <a:solidFill>
            <a:srgbClr val="336699"/>
          </a:solidFill>
          <a:ln w="1908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cc00"/>
                </a:solidFill>
                <a:latin typeface="Verdana"/>
              </a:rPr>
              <a:t>Usuar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cc00"/>
                </a:solidFill>
                <a:latin typeface="Verdana"/>
              </a:rPr>
              <a:t>VPR_INM N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6" name=""/>
          <p:cNvCxnSpPr>
            <a:stCxn id="245" idx="3"/>
            <a:endCxn id="232" idx="1"/>
          </p:cNvCxnSpPr>
          <p:nvPr/>
        </p:nvCxnSpPr>
        <p:spPr>
          <a:xfrm flipV="1">
            <a:off x="2494080" y="5661720"/>
            <a:ext cx="2356560" cy="575640"/>
          </a:xfrm>
          <a:prstGeom prst="bentConnector3">
            <a:avLst>
              <a:gd name="adj1" fmla="val 49992"/>
            </a:avLst>
          </a:prstGeom>
          <a:ln w="19080">
            <a:solidFill>
              <a:srgbClr val="ffcc00"/>
            </a:solidFill>
            <a:miter/>
            <a:tailEnd len="lg" type="triangle" w="lg"/>
          </a:ln>
        </p:spPr>
      </p:cxn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719280" y="1484280"/>
            <a:ext cx="8207280" cy="41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os modelos de predicción han sido programados e integrados en un sistema que funciona en tiempo continuo en la instal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e ha desarrollado un programa que permite a los usuarios del sistema visualizar la predic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u última versión (</a:t>
            </a:r>
            <a:r>
              <a:rPr b="1" lang="es-ES" sz="2000" spc="-1" strike="noStrike">
                <a:solidFill>
                  <a:srgbClr val="ffcc00"/>
                </a:solidFill>
                <a:latin typeface="Verdana"/>
              </a:rPr>
              <a:t>VPR_INM NL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) contiene información en tiempo real de valores de diferentes contaminantes, información meteorológica, datos de emisión, predicciones de SO</a:t>
            </a:r>
            <a:r>
              <a:rPr b="0" lang="es-ES" sz="20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, gráficas de predicción, mapas,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908000" y="44280"/>
            <a:ext cx="720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5ffff"/>
                </a:solidFill>
                <a:latin typeface="Verdana"/>
              </a:rPr>
              <a:t>Sistemas de control suplementario de la contaminación atmosférica: predicción con modelos estadísti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79280" y="6610320"/>
            <a:ext cx="89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5ffff"/>
                </a:solidFill>
                <a:latin typeface="Verdana"/>
              </a:rPr>
              <a:t>CEIOME’05, A Coruñ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19280" y="790560"/>
            <a:ext cx="80294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Herramienta de visualiz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908000" y="44280"/>
            <a:ext cx="720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5ffff"/>
                </a:solidFill>
                <a:latin typeface="Verdana"/>
              </a:rPr>
              <a:t>Sistemas de control suplementario de la contaminación atmosférica: predicción con modelos estadísti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79280" y="6610320"/>
            <a:ext cx="89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5ffff"/>
                </a:solidFill>
                <a:latin typeface="Verdana"/>
              </a:rPr>
              <a:t>CEIOME’05, A Coruñ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19280" y="790560"/>
            <a:ext cx="80294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VPR_INM NL:</a:t>
            </a:r>
            <a:r>
              <a:rPr b="0" i="1" lang="es-ES_tradnl" sz="2400" spc="-1" strike="noStrike">
                <a:solidFill>
                  <a:srgbClr val="ffffff"/>
                </a:solidFill>
                <a:latin typeface="Verdana"/>
              </a:rPr>
              <a:t> pantalla princip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antalla%20principal" descr=""/>
          <p:cNvPicPr/>
          <p:nvPr/>
        </p:nvPicPr>
        <p:blipFill>
          <a:blip r:embed="rId2"/>
          <a:stretch/>
        </p:blipFill>
        <p:spPr>
          <a:xfrm>
            <a:off x="1114560" y="1539720"/>
            <a:ext cx="6837120" cy="491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908000" y="44280"/>
            <a:ext cx="720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5ffff"/>
                </a:solidFill>
                <a:latin typeface="Verdana"/>
              </a:rPr>
              <a:t>Sistemas de control suplementario de la contaminación atmosférica: predicción con modelos estadísti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79280" y="6610320"/>
            <a:ext cx="89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5ffff"/>
                </a:solidFill>
                <a:latin typeface="Verdana"/>
              </a:rPr>
              <a:t>CEIOME’05, A Coruñ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19280" y="790560"/>
            <a:ext cx="80294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VPR_INM NL:</a:t>
            </a:r>
            <a:r>
              <a:rPr b="0" i="1" lang="es-ES_tradnl" sz="2400" spc="-1" strike="noStrike">
                <a:solidFill>
                  <a:srgbClr val="ffffff"/>
                </a:solidFill>
                <a:latin typeface="Verdana"/>
              </a:rPr>
              <a:t> predicción espa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327400" y="2027160"/>
            <a:ext cx="4491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espacial2" descr=""/>
          <p:cNvPicPr/>
          <p:nvPr/>
        </p:nvPicPr>
        <p:blipFill>
          <a:blip r:embed="rId2"/>
          <a:stretch/>
        </p:blipFill>
        <p:spPr>
          <a:xfrm>
            <a:off x="1114560" y="1539720"/>
            <a:ext cx="6823080" cy="491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908000" y="44280"/>
            <a:ext cx="720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5ffff"/>
                </a:solidFill>
                <a:latin typeface="Verdana"/>
              </a:rPr>
              <a:t>Sistemas de control suplementario de la contaminación atmosférica: predicción con modelos estadísti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9280" y="6610320"/>
            <a:ext cx="89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5ffff"/>
                </a:solidFill>
                <a:latin typeface="Verdana"/>
              </a:rPr>
              <a:t>CEIOME’05, A Coruñ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19280" y="790560"/>
            <a:ext cx="80294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VPR_INM NL: </a:t>
            </a:r>
            <a:r>
              <a:rPr b="0" i="1" lang="es-ES_tradnl" sz="2400" spc="-1" strike="noStrike">
                <a:solidFill>
                  <a:srgbClr val="ffffff"/>
                </a:solidFill>
                <a:latin typeface="Verdana"/>
              </a:rPr>
              <a:t>predicción punt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1114560" y="1539720"/>
            <a:ext cx="6848280" cy="49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908000" y="44280"/>
            <a:ext cx="720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5ffff"/>
                </a:solidFill>
                <a:latin typeface="Verdana"/>
              </a:rPr>
              <a:t>Sistemas de control suplementario de la contaminación atmosférica: predicción con modelos estadísti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9280" y="6610320"/>
            <a:ext cx="89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5ffff"/>
                </a:solidFill>
                <a:latin typeface="Verdana"/>
              </a:rPr>
              <a:t>CEIOME’05, A Coruñ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19280" y="790560"/>
            <a:ext cx="80294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VPR_INM NL: </a:t>
            </a:r>
            <a:r>
              <a:rPr b="0" i="1" lang="es-ES_tradnl" sz="2400" spc="-1" strike="noStrike">
                <a:solidFill>
                  <a:srgbClr val="ffffff"/>
                </a:solidFill>
                <a:latin typeface="Verdana"/>
              </a:rPr>
              <a:t>visualización de histór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1114560" y="1539720"/>
            <a:ext cx="6848280" cy="489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908000" y="44280"/>
            <a:ext cx="720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5ffff"/>
                </a:solidFill>
                <a:latin typeface="Verdana"/>
              </a:rPr>
              <a:t>Sistemas de control suplementario de la contaminación atmosférica: predicción con modelos estadísti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9280" y="6610320"/>
            <a:ext cx="89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5ffff"/>
                </a:solidFill>
                <a:latin typeface="Verdana"/>
              </a:rPr>
              <a:t>CEIOME’05, A Coruñ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19280" y="790560"/>
            <a:ext cx="80294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VPR_INM NL: </a:t>
            </a:r>
            <a:r>
              <a:rPr b="0" i="1" lang="es-ES_tradnl" sz="2400" spc="-1" strike="noStrike">
                <a:solidFill>
                  <a:srgbClr val="ffffff"/>
                </a:solidFill>
                <a:latin typeface="Verdana"/>
              </a:rPr>
              <a:t>em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327400" y="2030400"/>
            <a:ext cx="4491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grupos-paiNL" descr=""/>
          <p:cNvPicPr/>
          <p:nvPr/>
        </p:nvPicPr>
        <p:blipFill>
          <a:blip r:embed="rId2"/>
          <a:stretch/>
        </p:blipFill>
        <p:spPr>
          <a:xfrm>
            <a:off x="1114560" y="1539720"/>
            <a:ext cx="6891120" cy="491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908000" y="44280"/>
            <a:ext cx="720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5ffff"/>
                </a:solidFill>
                <a:latin typeface="Verdana"/>
              </a:rPr>
              <a:t>Sistemas de control suplementario de la contaminación atmosférica: predicción con modelos estadísti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79280" y="6610320"/>
            <a:ext cx="89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5ffff"/>
                </a:solidFill>
                <a:latin typeface="Verdana"/>
              </a:rPr>
              <a:t>CEIOME’05, A Coruñ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19280" y="790560"/>
            <a:ext cx="80294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VPR_INM NL: </a:t>
            </a:r>
            <a:r>
              <a:rPr b="0" i="1" lang="es-ES_tradnl" sz="2400" spc="-1" strike="noStrike">
                <a:solidFill>
                  <a:srgbClr val="ffffff"/>
                </a:solidFill>
                <a:latin typeface="Verdana"/>
              </a:rPr>
              <a:t>meteorolog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327400" y="2030400"/>
            <a:ext cx="4491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mourelaNL" descr=""/>
          <p:cNvPicPr/>
          <p:nvPr/>
        </p:nvPicPr>
        <p:blipFill>
          <a:blip r:embed="rId2"/>
          <a:stretch/>
        </p:blipFill>
        <p:spPr>
          <a:xfrm>
            <a:off x="1114560" y="1539720"/>
            <a:ext cx="6851520" cy="491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179280" y="154080"/>
            <a:ext cx="8785440" cy="65880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79280" y="4724280"/>
            <a:ext cx="8785440" cy="2016360"/>
          </a:xfrm>
          <a:prstGeom prst="rect">
            <a:avLst/>
          </a:prstGeom>
          <a:solidFill>
            <a:srgbClr val="336699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627280" y="4941720"/>
            <a:ext cx="38163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Verdana"/>
              </a:rPr>
              <a:t>José Luis Bermúdez Cel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Verdana"/>
              </a:rPr>
              <a:t>jbermudez@endesa.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ffffff"/>
                </a:solidFill>
                <a:latin typeface="Verdana"/>
              </a:rPr>
              <a:t>Belén Mª Fernández de Castr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cc00"/>
                </a:solidFill>
                <a:latin typeface="Verdana"/>
              </a:rPr>
              <a:t>fdcastro@usc.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900000" y="5778360"/>
            <a:ext cx="1368360" cy="8906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>
            <a:off x="353880" y="4797360"/>
            <a:ext cx="19144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19280" y="1798560"/>
            <a:ext cx="1752480" cy="337320"/>
          </a:xfrm>
          <a:prstGeom prst="rect">
            <a:avLst/>
          </a:prstGeom>
          <a:solidFill>
            <a:srgbClr val="336699"/>
          </a:solidFill>
          <a:ln w="1908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5ffff"/>
                </a:solidFill>
                <a:latin typeface="Verdana"/>
              </a:rPr>
              <a:t>RED DE ALER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98680" y="1798560"/>
            <a:ext cx="2514600" cy="580680"/>
          </a:xfrm>
          <a:prstGeom prst="rect">
            <a:avLst/>
          </a:prstGeom>
          <a:solidFill>
            <a:srgbClr val="336699"/>
          </a:solidFill>
          <a:ln w="1908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5ffff"/>
                </a:solidFill>
                <a:latin typeface="Verdana"/>
              </a:rPr>
              <a:t>INFORMACIÓN METEOROLÓGIC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1798560"/>
            <a:ext cx="1905120" cy="580680"/>
          </a:xfrm>
          <a:prstGeom prst="rect">
            <a:avLst/>
          </a:prstGeom>
          <a:solidFill>
            <a:srgbClr val="336699"/>
          </a:solidFill>
          <a:ln w="1908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5ffff"/>
                </a:solidFill>
                <a:latin typeface="Verdana"/>
              </a:rPr>
              <a:t>CONTROL DE EMISIO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55960" y="2914560"/>
            <a:ext cx="3200400" cy="824040"/>
          </a:xfrm>
          <a:prstGeom prst="rect">
            <a:avLst/>
          </a:prstGeom>
          <a:solidFill>
            <a:srgbClr val="336699"/>
          </a:solidFill>
          <a:ln w="1908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5ffff"/>
                </a:solidFill>
                <a:latin typeface="Verdana"/>
              </a:rPr>
              <a:t>ADQUISICIÓN Y GESTIÓN DE LA INFORMACIÓN EN TIEMPO RE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22720" y="4267080"/>
            <a:ext cx="2666880" cy="824040"/>
          </a:xfrm>
          <a:prstGeom prst="rect">
            <a:avLst/>
          </a:prstGeom>
          <a:solidFill>
            <a:srgbClr val="336699"/>
          </a:solidFill>
          <a:ln w="1908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5ffff"/>
                </a:solidFill>
                <a:latin typeface="Verdana"/>
              </a:rPr>
              <a:t>TÉCNICAS DE PREDICCIÓN DE INMIS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60880" y="5562720"/>
            <a:ext cx="2590560" cy="580680"/>
          </a:xfrm>
          <a:prstGeom prst="rect">
            <a:avLst/>
          </a:prstGeom>
          <a:solidFill>
            <a:srgbClr val="336699"/>
          </a:solidFill>
          <a:ln w="1908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5ffff"/>
                </a:solidFill>
                <a:latin typeface="Verdana"/>
              </a:rPr>
              <a:t>CONTROL SUPLEMENT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19280" y="79056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Sistemas de control suplementario de la contaminación atmosfé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44280"/>
            <a:ext cx="720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5ffff"/>
                </a:solidFill>
                <a:latin typeface="Verdana"/>
              </a:rPr>
              <a:t>Sistemas de control suplementario de la contaminación atmosférica: predicción con modelos estadísti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91" idx="2"/>
            <a:endCxn id="94" idx="1"/>
          </p:cNvCxnSpPr>
          <p:nvPr/>
        </p:nvCxnSpPr>
        <p:spPr>
          <a:xfrm flipH="1" rot="16200000">
            <a:off x="1806480" y="2197080"/>
            <a:ext cx="929160" cy="1351080"/>
          </a:xfrm>
          <a:prstGeom prst="bentConnector2">
            <a:avLst/>
          </a:prstGeom>
          <a:ln w="19080">
            <a:solidFill>
              <a:srgbClr val="e5ffff"/>
            </a:solidFill>
            <a:miter/>
            <a:tailEnd len="lg" type="triangle" w="lg"/>
          </a:ln>
        </p:spPr>
      </p:cxnSp>
      <p:cxnSp>
        <p:nvCxnSpPr>
          <p:cNvPr id="101" name=""/>
          <p:cNvCxnSpPr>
            <a:stCxn id="92" idx="2"/>
            <a:endCxn id="94" idx="0"/>
          </p:cNvCxnSpPr>
          <p:nvPr/>
        </p:nvCxnSpPr>
        <p:spPr>
          <a:xfrm>
            <a:off x="4555800" y="2408400"/>
            <a:ext cx="1080" cy="497520"/>
          </a:xfrm>
          <a:prstGeom prst="straightConnector1">
            <a:avLst/>
          </a:prstGeom>
          <a:ln w="19080">
            <a:solidFill>
              <a:srgbClr val="e5ffff"/>
            </a:solidFill>
            <a:miter/>
            <a:tailEnd len="lg" type="triangle" w="lg"/>
          </a:ln>
        </p:spPr>
      </p:cxnSp>
      <p:cxnSp>
        <p:nvCxnSpPr>
          <p:cNvPr id="102" name=""/>
          <p:cNvCxnSpPr>
            <a:stCxn id="94" idx="2"/>
            <a:endCxn id="95" idx="0"/>
          </p:cNvCxnSpPr>
          <p:nvPr/>
        </p:nvCxnSpPr>
        <p:spPr>
          <a:xfrm>
            <a:off x="4555800" y="3768840"/>
            <a:ext cx="1080" cy="489600"/>
          </a:xfrm>
          <a:prstGeom prst="straightConnector1">
            <a:avLst/>
          </a:prstGeom>
          <a:ln w="19080">
            <a:solidFill>
              <a:srgbClr val="e5ffff"/>
            </a:solidFill>
            <a:miter/>
            <a:tailEnd len="lg" type="triangle" w="lg"/>
          </a:ln>
        </p:spPr>
      </p:cxnSp>
      <p:cxnSp>
        <p:nvCxnSpPr>
          <p:cNvPr id="103" name=""/>
          <p:cNvCxnSpPr>
            <a:stCxn id="95" idx="2"/>
            <a:endCxn id="96" idx="0"/>
          </p:cNvCxnSpPr>
          <p:nvPr/>
        </p:nvCxnSpPr>
        <p:spPr>
          <a:xfrm>
            <a:off x="4555800" y="5121000"/>
            <a:ext cx="1080" cy="432360"/>
          </a:xfrm>
          <a:prstGeom prst="straightConnector1">
            <a:avLst/>
          </a:prstGeom>
          <a:ln w="19080">
            <a:solidFill>
              <a:srgbClr val="e5ffff"/>
            </a:solidFill>
            <a:miter/>
            <a:tailEnd len="lg" type="triangle" w="lg"/>
          </a:ln>
        </p:spPr>
      </p:cxnSp>
      <p:cxnSp>
        <p:nvCxnSpPr>
          <p:cNvPr id="104" name=""/>
          <p:cNvCxnSpPr>
            <a:stCxn id="93" idx="2"/>
            <a:endCxn id="94" idx="3"/>
          </p:cNvCxnSpPr>
          <p:nvPr/>
        </p:nvCxnSpPr>
        <p:spPr>
          <a:xfrm rot="5400000">
            <a:off x="6352560" y="2220480"/>
            <a:ext cx="929160" cy="1304280"/>
          </a:xfrm>
          <a:prstGeom prst="bentConnector2">
            <a:avLst/>
          </a:prstGeom>
          <a:ln w="19080">
            <a:solidFill>
              <a:srgbClr val="e5ffff"/>
            </a:solidFill>
            <a:miter/>
            <a:tailEnd len="lg" type="triangle" w="lg"/>
          </a:ln>
        </p:spPr>
      </p:cxnSp>
      <p:sp>
        <p:nvSpPr>
          <p:cNvPr id="105" name=""/>
          <p:cNvSpPr/>
          <p:nvPr/>
        </p:nvSpPr>
        <p:spPr>
          <a:xfrm>
            <a:off x="5867280" y="2421000"/>
            <a:ext cx="1944720" cy="3456000"/>
          </a:xfrm>
          <a:custGeom>
            <a:avLst/>
            <a:gdLst/>
            <a:ahLst/>
            <a:rect l="l" t="t" r="r" b="b"/>
            <a:pathLst>
              <a:path w="1316" h="2132">
                <a:moveTo>
                  <a:pt x="0" y="2132"/>
                </a:moveTo>
                <a:lnTo>
                  <a:pt x="1316" y="2132"/>
                </a:lnTo>
                <a:lnTo>
                  <a:pt x="1316" y="0"/>
                </a:lnTo>
              </a:path>
            </a:pathLst>
          </a:custGeom>
          <a:noFill/>
          <a:ln w="19080">
            <a:solidFill>
              <a:srgbClr val="e5ff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6610320"/>
            <a:ext cx="89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5ffff"/>
                </a:solidFill>
                <a:latin typeface="Verdana"/>
              </a:rPr>
              <a:t>CEIOME’05, A Coruñ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19280" y="79056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Control suplementario en la UPT As Po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9280" y="1676520"/>
            <a:ext cx="78483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Verdana"/>
              </a:rPr>
              <a:t>Objeti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Asegurar el cumplimiento de los requisitos contemplados en el RD 1073/2002 sobre evaluación y gestión del aire ambiente en el entorno de la UPT As Po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Verdana"/>
              </a:rPr>
              <a:t>Actu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Planificación de la explotación min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Modificaciones inmediatas de las mezclas de carbón de consumo con el fin de utilizar hasta un 100% de carbón de import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44280"/>
            <a:ext cx="727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5ffff"/>
                </a:solidFill>
                <a:latin typeface="Verdana"/>
              </a:rPr>
              <a:t>Sistemas de control suplementario de la contaminación atmosférica: predicción con modelos estadísti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6610320"/>
            <a:ext cx="89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5ffff"/>
                </a:solidFill>
                <a:latin typeface="Verdana"/>
              </a:rPr>
              <a:t>CEIOME’05, A Coruñ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19280" y="2057400"/>
            <a:ext cx="784836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Verdana"/>
              </a:rPr>
              <a:t>Elemen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Sistema de control de emi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Red de vigilancia de la calidad del ai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stación meteorológ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Unidad central de Adquisición de datos y gestión de la inform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Sistema de Predicción Estadística de Inmisión (SIPE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4280"/>
            <a:ext cx="720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5ffff"/>
                </a:solidFill>
                <a:latin typeface="Verdana"/>
              </a:rPr>
              <a:t>Sistemas de control suplementario de la contaminación atmosférica: predicción con modelos estadísti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9280" y="79056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Control suplementario en la UPT As Po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9280" y="6610320"/>
            <a:ext cx="89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5ffff"/>
                </a:solidFill>
                <a:latin typeface="Verdana"/>
              </a:rPr>
              <a:t>CEIOME’05, A Coruñ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908000" y="44280"/>
            <a:ext cx="720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5ffff"/>
                </a:solidFill>
                <a:latin typeface="Verdana"/>
              </a:rPr>
              <a:t>Sistemas de control suplementario de la contaminación atmosférica: predicción con modelos estadísti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9280" y="79056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Red de Vigilancia de la Calidad de A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6610320"/>
            <a:ext cx="89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5ffff"/>
                </a:solidFill>
                <a:latin typeface="Verdana"/>
              </a:rPr>
              <a:t>CEIOME’05, A Coruñ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436760" y="1341360"/>
            <a:ext cx="6303960" cy="5268960"/>
            <a:chOff x="1436760" y="1341360"/>
            <a:chExt cx="6303960" cy="526896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1436760" y="1341360"/>
              <a:ext cx="6303960" cy="526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3"/>
            <a:stretch/>
          </p:blipFill>
          <p:spPr>
            <a:xfrm>
              <a:off x="1504800" y="4938480"/>
              <a:ext cx="1513440" cy="91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" name=""/>
          <p:cNvSpPr/>
          <p:nvPr/>
        </p:nvSpPr>
        <p:spPr>
          <a:xfrm rot="19140000">
            <a:off x="2032560" y="2358720"/>
            <a:ext cx="11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Océano Atlántic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19280" y="790560"/>
            <a:ext cx="80294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Sistema de predicción estadística de inm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9280" y="1600200"/>
            <a:ext cx="784836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Desarrollado por por el Departamento de Estadística e Investigación Operativa de la Universidad de Santia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Objetivo: predecir con media hora de anticipación la evolución de los niveles de dióxido de azufre en el entorno de la UPT As Pontes y sugerir una línea de actu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Utilización de modelos estadísticos a partir de la información en tiempo real de emisiones, calidad de aire y meteorologí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Aplicación informática en tiempo real concebida como ayuda a la operación en la toma de decisiones inmedia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Nuevos desarrollos: ampliación de horizontes de predicción, utilización de datos minutales, predicciones probabilíst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08000" y="44280"/>
            <a:ext cx="720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5ffff"/>
                </a:solidFill>
                <a:latin typeface="Verdana"/>
              </a:rPr>
              <a:t>Sistemas de control suplementario de la contaminación atmosférica: predicción con modelos estadísti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6610320"/>
            <a:ext cx="89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5ffff"/>
                </a:solidFill>
                <a:latin typeface="Verdana"/>
              </a:rPr>
              <a:t>CEIOME’05, A Coruñ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19280" y="790560"/>
            <a:ext cx="80294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Sistema de predicción estadística de inm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19280" y="189216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cc00"/>
                </a:solidFill>
                <a:latin typeface="Verdana"/>
              </a:rPr>
              <a:t>Planteamiento del problema estadíst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08000" y="44280"/>
            <a:ext cx="720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5ffff"/>
                </a:solidFill>
                <a:latin typeface="Verdana"/>
              </a:rPr>
              <a:t>Sistemas de control suplementario de la contaminación atmosférica: predicción con modelos estadísti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6610320"/>
            <a:ext cx="89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5ffff"/>
                </a:solidFill>
                <a:latin typeface="Verdana"/>
              </a:rPr>
              <a:t>CEIOME’05, A Coruñ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19280" y="2708280"/>
            <a:ext cx="78483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e recogen datos de calidad de aire, en particular de SO</a:t>
            </a:r>
            <a:r>
              <a:rPr b="0" lang="es-ES" sz="20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, de las estaciones de la Red de Vigilancia de Calidad de Aire (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frecuencia pentaminutal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a legislación vigente obliga a controlar la </a:t>
            </a:r>
            <a:r>
              <a:rPr b="1" i="1" lang="es-ES" sz="2000" spc="-1" strike="noStrike">
                <a:solidFill>
                  <a:srgbClr val="ffcc00"/>
                </a:solidFill>
                <a:latin typeface="Verdana"/>
              </a:rPr>
              <a:t>media horaria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de valores de SO</a:t>
            </a:r>
            <a:r>
              <a:rPr b="0" lang="es-ES" sz="20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8569080" cy="57452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979640" y="836640"/>
            <a:ext cx="216000" cy="5761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08000" y="44280"/>
            <a:ext cx="720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5ffff"/>
                </a:solidFill>
                <a:latin typeface="Verdana"/>
              </a:rPr>
              <a:t>Sistemas de control suplementario de la contaminación atmosférica: predicción con modelos estadístic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6610320"/>
            <a:ext cx="89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5ffff"/>
                </a:solidFill>
                <a:latin typeface="Verdana"/>
              </a:rPr>
              <a:t>CEIOME’05, A Coruñ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3T17:22:51Z</dcterms:created>
  <dc:creator>fdcastro</dc:creator>
  <dc:description/>
  <dc:language>en-US</dc:language>
  <cp:lastModifiedBy> </cp:lastModifiedBy>
  <dcterms:modified xsi:type="dcterms:W3CDTF">2010-07-06T11:40:51Z</dcterms:modified>
  <cp:revision>26</cp:revision>
  <dc:subject/>
  <dc:title>Diapositiva 1</dc:title>
</cp:coreProperties>
</file>