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3.jpeg" ContentType="image/jpeg"/>
  <Override PartName="/ppt/media/image24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10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9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13.wmf" ContentType="image/x-wmf"/>
  <Override PartName="/ppt/media/image27.jpeg" ContentType="image/jpeg"/>
  <Override PartName="/ppt/media/image28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DD7-4AB8-4D8D-9D41-9F3B98D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D4A-43AC-4083-B2E2-A0BF22A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B15-ADB2-4615-A0BD-B3CCA225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F26-A784-494A-AFE1-79A60815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8E84-D982-44D5-9100-83D2DBC2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8F2C-0A20-491F-9B08-9F96205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6298-A371-4C70-AC6B-4B3CCBA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DFB-46ED-43AF-8E74-88CC9DE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C7D4-420B-4218-84B3-7240035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039E-2E77-4506-8E14-2D5030A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7D6D-5E4B-42CB-A1B2-1662494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A74-2083-4A30-9404-72048FC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CD85-19D0-422E-87B3-31CC835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FC06-E4A6-4C32-BAB1-051674B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828F-64B0-4F96-A9FD-A9EA36E1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F07-6092-4805-A50C-F943D4E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8BB6-7B1E-45BF-8B51-40049FF8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77E-5CBF-4690-B6F7-8A451D9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AF5-5A40-483B-8248-8B6A67C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B17-25BE-49FF-BED0-E46D527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D16-7ED8-4ADA-A9A5-F373D448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897-8FB2-4B30-B860-D7FE693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D5E-DF3C-40CE-B7B3-0E09908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877-CF39-46D2-B61C-A4EBE96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170-79CF-4CE8-9CD3-AB9268DB30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E08-6D8D-4164-B677-5414A42F1B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4317840"/>
            <a:ext cx="7088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Verdana"/>
              </a:rPr>
              <a:t>José Luis Bermúdez C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Verdana"/>
              </a:rPr>
              <a:t>Belén M Fernández de Cas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96360" y="5788080"/>
            <a:ext cx="1368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5786280"/>
            <a:ext cx="191448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8200" y="836640"/>
            <a:ext cx="215640" cy="574524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547640" y="836640"/>
            <a:ext cx="64800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1368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042920" y="836640"/>
            <a:ext cx="1944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26920" y="836640"/>
            <a:ext cx="2737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84360" y="836640"/>
            <a:ext cx="33112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39640" y="836640"/>
            <a:ext cx="4032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836640"/>
            <a:ext cx="489744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95280" y="836640"/>
            <a:ext cx="5400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24000" y="836640"/>
            <a:ext cx="6048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250920" y="836640"/>
            <a:ext cx="6769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250920" y="836640"/>
            <a:ext cx="7416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250920" y="836640"/>
            <a:ext cx="7993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250920" y="836640"/>
            <a:ext cx="8569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852480"/>
            <a:ext cx="8569080" cy="5745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32000" y="278280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instalación necesita disponer de información, al menos, con 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½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ante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907920"/>
            <a:ext cx="8207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ncipal objetiv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prevenir episodios de alteración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5813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Herramientas de predicción de valores de SO</a:t>
            </a:r>
            <a:r>
              <a:rPr b="1" i="1" lang="en-US" sz="2000" spc="-1" strike="noStrike" baseline="-25000">
                <a:solidFill>
                  <a:srgbClr val="ffcc00"/>
                </a:solidFill>
                <a:latin typeface="Verdana"/>
              </a:rPr>
              <a:t>2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, en media horaria, basados en modelos estadíst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9280" y="79056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diferentes metodologí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tilizadas han aportado soluciones desde varios puntos de vis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55640" y="2338920"/>
            <a:ext cx="58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espa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e planteamiento nos permite dar como respuesta la predicción del nivel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52520" y="2492280"/>
            <a:ext cx="6459480" cy="40165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19280" y="790560"/>
            <a:ext cx="8207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odelos utili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miparamét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cialmente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des Neur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348000" y="5611680"/>
          <a:ext cx="4402080" cy="84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5611680"/>
                    <a:ext cx="440208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348000" y="2225520"/>
          <a:ext cx="358128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2225520"/>
                    <a:ext cx="35812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319480" y="2800440"/>
          <a:ext cx="428940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19480" y="2800440"/>
                    <a:ext cx="4289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292480" y="3303720"/>
          <a:ext cx="5075280" cy="44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2480" y="3303720"/>
                    <a:ext cx="50752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utilización del modelo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GGA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s permite dar como respuesta la probabilidad de superar un cierto nivel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52520" y="2494080"/>
            <a:ext cx="6473880" cy="40240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19280" y="790560"/>
            <a:ext cx="8207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I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objetivo es predeci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endo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a variable b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129120" y="2133720"/>
          <a:ext cx="288288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9120" y="2133720"/>
                    <a:ext cx="2882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51280" y="3332160"/>
          <a:ext cx="14605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3332160"/>
                    <a:ext cx="1460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19280" y="790560"/>
            <a:ext cx="8207280" cy="21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I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espa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modelos de predicción espacial nos permiten construir una superficie de predicción de niveles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para el entorno de la insta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252520" y="2820960"/>
            <a:ext cx="463896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V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modelos funcionales permiten dar como respuesta la curva completa de niveles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ara un horizonte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276200" y="2925720"/>
            <a:ext cx="6535800" cy="36720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9280" y="1798560"/>
            <a:ext cx="7848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strategias Pos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Fijación de normas de calidad de aire que no pueden sobrepas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ntrol de las emisiones mediante las mejores tecnologías dispo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strategia Óp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ntrol de los nuevos focos mediante las mejores tecnologías dispo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daptación progresiva de los focos existentes a las exigencias de los nue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igilancia y control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280" y="79056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strategias de lucha contra la contaminación atmosf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19280" y="790560"/>
            <a:ext cx="820728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V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ode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úcleo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utorregresivo de Hilb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195640" y="1557360"/>
          <a:ext cx="222408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557360"/>
                    <a:ext cx="2224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084720" y="5175360"/>
          <a:ext cx="23767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5175360"/>
                    <a:ext cx="2376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170160" y="5170320"/>
          <a:ext cx="2398680" cy="490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0160" y="5170320"/>
                    <a:ext cx="2398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763640" y="5299200"/>
          <a:ext cx="892080" cy="36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63640" y="5299200"/>
                    <a:ext cx="8920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625840" y="2492280"/>
          <a:ext cx="3746520" cy="180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5840" y="2492280"/>
                    <a:ext cx="37465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43280" y="1628640"/>
            <a:ext cx="583236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Verdana"/>
              </a:rPr>
              <a:t>S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Integración de los sistem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537372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2276640"/>
            <a:ext cx="2089080" cy="5760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Recog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40360" y="3429000"/>
            <a:ext cx="1584360" cy="1152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Bin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346536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Espa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2000" y="3429000"/>
            <a:ext cx="1584360" cy="1152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Pun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413000"/>
            <a:ext cx="2016000" cy="129672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Verdana"/>
              </a:rPr>
              <a:t>ME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Crea archivos d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3"/>
            <a:endCxn id="233" idx="1"/>
          </p:cNvCxnSpPr>
          <p:nvPr/>
        </p:nvCxnSpPr>
        <p:spPr>
          <a:xfrm>
            <a:off x="2493720" y="2062080"/>
            <a:ext cx="2284920" cy="504000"/>
          </a:xfrm>
          <a:prstGeom prst="bentConnector3">
            <a:avLst>
              <a:gd name="adj1" fmla="val 49952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39" name=""/>
          <p:cNvCxnSpPr>
            <a:stCxn id="233" idx="2"/>
            <a:endCxn id="236" idx="0"/>
          </p:cNvCxnSpPr>
          <p:nvPr/>
        </p:nvCxnSpPr>
        <p:spPr>
          <a:xfrm rot="5400000">
            <a:off x="4599000" y="2187000"/>
            <a:ext cx="558000" cy="1908720"/>
          </a:xfrm>
          <a:prstGeom prst="bentConnector3">
            <a:avLst>
              <a:gd name="adj1" fmla="val 49838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0" name=""/>
          <p:cNvCxnSpPr>
            <a:stCxn id="233" idx="2"/>
            <a:endCxn id="234" idx="0"/>
          </p:cNvCxnSpPr>
          <p:nvPr/>
        </p:nvCxnSpPr>
        <p:spPr>
          <a:xfrm>
            <a:off x="5832000" y="2862360"/>
            <a:ext cx="1080" cy="55800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1" name=""/>
          <p:cNvCxnSpPr>
            <a:stCxn id="233" idx="2"/>
            <a:endCxn id="235" idx="0"/>
          </p:cNvCxnSpPr>
          <p:nvPr/>
        </p:nvCxnSpPr>
        <p:spPr>
          <a:xfrm flipH="1" rot="16200000">
            <a:off x="6488640" y="2204640"/>
            <a:ext cx="59436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2" name=""/>
          <p:cNvCxnSpPr>
            <a:stCxn id="236" idx="2"/>
            <a:endCxn id="232" idx="0"/>
          </p:cNvCxnSpPr>
          <p:nvPr/>
        </p:nvCxnSpPr>
        <p:spPr>
          <a:xfrm flipH="1" rot="16200000">
            <a:off x="4491720" y="4023000"/>
            <a:ext cx="773640" cy="1908720"/>
          </a:xfrm>
          <a:prstGeom prst="bentConnector3">
            <a:avLst>
              <a:gd name="adj1" fmla="val 4986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3" name=""/>
          <p:cNvCxnSpPr>
            <a:stCxn id="234" idx="2"/>
            <a:endCxn id="232" idx="0"/>
          </p:cNvCxnSpPr>
          <p:nvPr/>
        </p:nvCxnSpPr>
        <p:spPr>
          <a:xfrm>
            <a:off x="5832000" y="4590720"/>
            <a:ext cx="1080" cy="77364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4" name=""/>
          <p:cNvCxnSpPr>
            <a:stCxn id="235" idx="2"/>
            <a:endCxn id="232" idx="0"/>
          </p:cNvCxnSpPr>
          <p:nvPr/>
        </p:nvCxnSpPr>
        <p:spPr>
          <a:xfrm rot="5400000">
            <a:off x="6381000" y="4004640"/>
            <a:ext cx="81036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sp>
        <p:nvSpPr>
          <p:cNvPr id="245" name=""/>
          <p:cNvSpPr/>
          <p:nvPr/>
        </p:nvSpPr>
        <p:spPr>
          <a:xfrm>
            <a:off x="468360" y="580392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Verdana"/>
              </a:rPr>
              <a:t>Usu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Verdana"/>
              </a:rPr>
              <a:t>VPR_INM 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5" idx="3"/>
            <a:endCxn id="232" idx="1"/>
          </p:cNvCxnSpPr>
          <p:nvPr/>
        </p:nvCxnSpPr>
        <p:spPr>
          <a:xfrm flipV="1">
            <a:off x="2494080" y="5661720"/>
            <a:ext cx="2356560" cy="575640"/>
          </a:xfrm>
          <a:prstGeom prst="bentConnector3">
            <a:avLst>
              <a:gd name="adj1" fmla="val 49992"/>
            </a:avLst>
          </a:prstGeom>
          <a:ln w="19080">
            <a:solidFill>
              <a:srgbClr val="ffcc00"/>
            </a:solidFill>
            <a:miter/>
            <a:tailEnd len="lg" type="triangle" w="lg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19280" y="1484280"/>
            <a:ext cx="82072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s modelos de predicción han sido programados e integrados en un sistema que funciona en tiempo continuo en la insta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ha desarrollado un programa que permite a los usuarios del sistema visualizar la predi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última versión (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PR_INM N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) contiene información en tiempo real de valores de diferentes contaminantes, información meteorológica, datos de emisión, predicciones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gráficas de predicción, mapas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Herramienta de visu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 pantalla princi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antalla%20principa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37120" cy="49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 predicción esp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27400" y="202716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espacial2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2308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predicción pun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48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visualización de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482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e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7400" y="203040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grupos-paiN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9112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meteor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27400" y="203040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mourelaN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5152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79280" y="15408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9280" y="4724280"/>
            <a:ext cx="8785440" cy="2016360"/>
          </a:xfrm>
          <a:prstGeom prst="rect">
            <a:avLst/>
          </a:prstGeom>
          <a:solidFill>
            <a:srgbClr val="3366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4941720"/>
            <a:ext cx="381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José Luis Bermúdez C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Verdana"/>
              </a:rPr>
              <a:t>jbermudez@endesa.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Belén Mª Fernández de Cas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Verdana"/>
              </a:rPr>
              <a:t>fdcastro@usc.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900000" y="5778360"/>
            <a:ext cx="1368360" cy="890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53880" y="4797360"/>
            <a:ext cx="19144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9280" y="1798560"/>
            <a:ext cx="1752480" cy="33732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RED DE AL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98680" y="1798560"/>
            <a:ext cx="251460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INFORMACIÓN METEOROLÓG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1798560"/>
            <a:ext cx="190512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CONTROL DE EMI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55960" y="2914560"/>
            <a:ext cx="3200400" cy="82404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ADQUISICIÓN Y GESTIÓN DE LA INFORMACIÓN EN TIEMPO R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22720" y="4267080"/>
            <a:ext cx="2666880" cy="82404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TÉCNICAS DE PREDICCIÓN DE IN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60880" y="5562720"/>
            <a:ext cx="259056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CONTROL SUPLEMENT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280" y="7905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s de control suplementario de la contaminación atmosf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1" idx="2"/>
            <a:endCxn id="94" idx="1"/>
          </p:cNvCxnSpPr>
          <p:nvPr/>
        </p:nvCxnSpPr>
        <p:spPr>
          <a:xfrm flipH="1" rot="16200000">
            <a:off x="1806480" y="2197080"/>
            <a:ext cx="929160" cy="1351080"/>
          </a:xfrm>
          <a:prstGeom prst="bentConnector2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1" name=""/>
          <p:cNvCxnSpPr>
            <a:stCxn id="92" idx="2"/>
            <a:endCxn id="94" idx="0"/>
          </p:cNvCxnSpPr>
          <p:nvPr/>
        </p:nvCxnSpPr>
        <p:spPr>
          <a:xfrm>
            <a:off x="4555800" y="2408400"/>
            <a:ext cx="1080" cy="49752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2" name=""/>
          <p:cNvCxnSpPr>
            <a:stCxn id="94" idx="2"/>
            <a:endCxn id="95" idx="0"/>
          </p:cNvCxnSpPr>
          <p:nvPr/>
        </p:nvCxnSpPr>
        <p:spPr>
          <a:xfrm>
            <a:off x="4555800" y="3768840"/>
            <a:ext cx="1080" cy="48960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5" idx="2"/>
            <a:endCxn id="96" idx="0"/>
          </p:cNvCxnSpPr>
          <p:nvPr/>
        </p:nvCxnSpPr>
        <p:spPr>
          <a:xfrm>
            <a:off x="4555800" y="5121000"/>
            <a:ext cx="1080" cy="43236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2"/>
            <a:endCxn id="94" idx="3"/>
          </p:cNvCxnSpPr>
          <p:nvPr/>
        </p:nvCxnSpPr>
        <p:spPr>
          <a:xfrm rot="5400000">
            <a:off x="6352560" y="2220480"/>
            <a:ext cx="929160" cy="1304280"/>
          </a:xfrm>
          <a:prstGeom prst="bentConnector2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sp>
        <p:nvSpPr>
          <p:cNvPr id="105" name=""/>
          <p:cNvSpPr/>
          <p:nvPr/>
        </p:nvSpPr>
        <p:spPr>
          <a:xfrm>
            <a:off x="5867280" y="2421000"/>
            <a:ext cx="1944720" cy="3456000"/>
          </a:xfrm>
          <a:custGeom>
            <a:avLst/>
            <a:gdLst/>
            <a:ahLst/>
            <a:rect l="l" t="t" r="r" b="b"/>
            <a:pathLst>
              <a:path w="1316" h="2132">
                <a:moveTo>
                  <a:pt x="0" y="2132"/>
                </a:moveTo>
                <a:lnTo>
                  <a:pt x="1316" y="2132"/>
                </a:lnTo>
                <a:lnTo>
                  <a:pt x="1316" y="0"/>
                </a:lnTo>
              </a:path>
            </a:pathLst>
          </a:custGeom>
          <a:noFill/>
          <a:ln w="19080">
            <a:solidFill>
              <a:srgbClr val="e5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ontrol suplementario en la UPT As Po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9280" y="1676520"/>
            <a:ext cx="7848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segurar el cumplimiento de los requisitos contemplados en el RD 1073/2002 sobre evaluación y gestión del aire ambiente en el entorno de la UPT As Po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Actu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lanificación de la explotación mi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dificaciones inmediatas de las mezclas de carbón de consumo con el fin de utilizar hasta un 100% de carbón de impor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44280"/>
            <a:ext cx="72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9280" y="205740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stema de control de em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 de vigilancia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stación meteor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nidad central de Adquisición de datos y gestión de la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stema de Predicción Estadística de Inmisión (SIPE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ontrol suplementario en la UPT As Po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Red de Vigilancia de la Calidad de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36760" y="1341360"/>
            <a:ext cx="6303960" cy="5268960"/>
            <a:chOff x="1436760" y="1341360"/>
            <a:chExt cx="6303960" cy="5268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436760" y="1341360"/>
              <a:ext cx="6303960" cy="52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1504800" y="4938480"/>
              <a:ext cx="151344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 rot="19140000">
            <a:off x="2032560" y="235872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céano Atlánt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 de predicción estadística de in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1600200"/>
            <a:ext cx="7848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do por por el Departamento de Estadística e Investigación Operativa de la Universidad de Santi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bjetivo: predecir con media hora de anticipación la evolución de los niveles de dióxido de azufre en el entorno de la UPT As Pontes y sugerir una línea de act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tilización de modelos estadísticos a partir de la información en tiempo real de emisiones, calidad de aire y meteorolog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informática en tiempo real concebida como ayuda a la operación en la toma de decisiones inmedi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Nuevos desarrollos: ampliación de horizontes de predicción, utilización de datos minutales, predicciones probabilís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 de predicción estadística de in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18921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Verdana"/>
              </a:rPr>
              <a:t>Planteamiento del problema estadí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280" y="2708280"/>
            <a:ext cx="784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recogen datos de calidad de aire, en particular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de las estaciones de la Red de Vigilancia de Calidad de Aire (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frecuencia pentaminut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legislación vigente obliga a controlar la </a:t>
            </a:r>
            <a:r>
              <a:rPr b="1" i="1" lang="es-ES" sz="2000" spc="-1" strike="noStrike">
                <a:solidFill>
                  <a:srgbClr val="ffcc00"/>
                </a:solidFill>
                <a:latin typeface="Verdana"/>
              </a:rPr>
              <a:t>media horari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valores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569080" cy="574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79640" y="836640"/>
            <a:ext cx="216000" cy="5761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7:22:51Z</dcterms:created>
  <dc:creator>fdcastro</dc:creator>
  <dc:description/>
  <dc:language>en-US</dc:language>
  <cp:lastModifiedBy> </cp:lastModifiedBy>
  <dcterms:modified xsi:type="dcterms:W3CDTF">2010-07-06T11:40:51Z</dcterms:modified>
  <cp:revision>26</cp:revision>
  <dc:subject/>
  <dc:title>Diapositiva 1</dc:title>
</cp:coreProperties>
</file>