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1908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1908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409760" y="355680"/>
            <a:ext cx="4038480" cy="279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3566880"/>
            <a:ext cx="5029200" cy="58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9258120"/>
            <a:ext cx="297180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9258120"/>
            <a:ext cx="297180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7F14-C57B-49C3-80B6-BBDE774D61B0}" type="slidenum"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14.xml"/><Relationship Id="rId4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1" name=""/>
          <p:cNvGraphicFramePr/>
          <p:nvPr/>
        </p:nvGraphicFramePr>
        <p:xfrm>
          <a:off x="2948040" y="4915080"/>
          <a:ext cx="79056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8040" y="4915080"/>
                    <a:ext cx="7905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413000" y="355680"/>
            <a:ext cx="4032000" cy="279216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3566880"/>
            <a:ext cx="5029200" cy="58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82E-1AD3-40D0-8BFA-E1BDB9A3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043-4914-4DFB-9347-495A3BCB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E1E-42E6-4252-B359-4671A48E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004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66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72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004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66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6CC-6E35-4A1F-AC59-222B64F3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2672-7DA7-4272-853D-854844D5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7CAE-04E2-44D0-B9E8-FAD38D1F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E580-0ECB-4F33-95E0-D92D4FFE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F874-4FDD-4688-AD72-586B37A3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39BC-9ED9-4C9B-A80E-4FB3DE37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280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5558-B6B7-42D6-BA3D-17AB28F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80AB-1600-4EB7-BB75-9DF89A5E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798-A13C-4263-8366-C69AD470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D120-0963-4D8A-85C0-7BF09033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A2CF-AD3A-4C61-A779-8492D563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D558-D96B-452C-8816-4A5C80C1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0C9A-27D2-4A24-8D20-F2C8E119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2004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72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2004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153D-538E-4443-A052-EA0C30C7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A15-ED9C-4E9C-9A41-D8F13288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9C2-7DDE-4E52-A30D-00F9BCC2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AF6-CC8A-4FF0-99FF-8586946B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280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CB2-8F50-4ECD-8E38-46FFB03F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2A8-4409-4F1D-A84A-B98B5718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86B-5FED-4495-96CD-ECF973FA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621-00E4-4FF6-8D52-C8A41672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1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00520" y="1600200"/>
              <a:ext cx="839304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728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14480" y="60958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2968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BD40-E6FF-43C1-B5B0-413EED0DAD7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46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042560" y="61009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684600" y="61009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399440" y="6100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E0AF-537E-44EF-A45A-6FB53716C51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33720" y="838080"/>
            <a:ext cx="62578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nterpolación 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0" y="2286000"/>
            <a:ext cx="5715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juste de funcione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09680" y="4343400"/>
            <a:ext cx="62578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Una Introducció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95280" y="1981080"/>
            <a:ext cx="4876920" cy="2286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Aplicacion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66680" y="2057400"/>
            <a:ext cx="8458200" cy="55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Ingeniería y Diseño (CAD/CAM, CNC’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Ge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Aeronáutica y automo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Economí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Procesamiento de señales e imágenes (Reconoci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de patrones, recuperación de imágene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Robóti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Medicina (Aparatos auditivos, mapas cerebrale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Meteorología (Mapas climáticos, detección d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inundaciones,...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undo Virtual Distribuido Multiusuari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523880" y="4572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Polinómica Segmentari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322280" y="2363760"/>
          <a:ext cx="793764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2280" y="2363760"/>
                    <a:ext cx="79376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Splines Lineal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20840" y="4419720"/>
            <a:ext cx="7670880" cy="205740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olinomio de Lagrang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5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olinomio de Newt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20840" y="2590920"/>
            <a:ext cx="7594560" cy="121896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486080" y="2589120"/>
          <a:ext cx="733392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2589120"/>
                    <a:ext cx="733392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1371600" y="4724280"/>
          <a:ext cx="7242120" cy="17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724280"/>
                    <a:ext cx="7242120" cy="17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Splines Lineal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066680" y="23623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¿Cómo calculamos Splines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295280" y="3962520"/>
            <a:ext cx="8077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neales con Matlab?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Segmentaria Lineal: Función de Rung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1676520"/>
            <a:ext cx="8159760" cy="417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65680" y="257976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82630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6568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63080" y="56023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6568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66568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6568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32760" y="5565600"/>
            <a:ext cx="302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96600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6600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0652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26308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6308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0540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65680" y="56023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218440" y="56023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90640" y="54594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65680" y="529920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218440" y="529920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99840" y="51577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65680" y="49975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8218440" y="49975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99840" y="485460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65680" y="46958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8218440" y="46958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99840" y="45529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65680" y="43927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8218440" y="43927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99840" y="42512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65680" y="40910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8218440" y="40910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99840" y="39481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65680" y="37879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8218440" y="37879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99840" y="36464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65680" y="34862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218440" y="34862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99840" y="33433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65680" y="31845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8218440" y="31845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99840" y="30416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65680" y="28814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218440" y="28814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99840" y="273996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65680" y="25797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8218440" y="25797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90640" y="243684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65680" y="257976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82630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6568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63080" y="25797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7000" y="54864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65680" y="5451480"/>
            <a:ext cx="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60700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60700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64360" y="518472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1600" y="51483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64360" y="5148360"/>
            <a:ext cx="1159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6264360" y="5148360"/>
            <a:ext cx="1159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07320" y="257976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66000" y="254304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07320" y="254304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907320" y="254304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61440" y="518472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20120" y="51483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61440" y="51483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561440" y="51483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205840" y="54864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263080" y="5451480"/>
            <a:ext cx="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20584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820584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65680" y="2579760"/>
            <a:ext cx="2598840" cy="2908080"/>
          </a:xfrm>
          <a:custGeom>
            <a:avLst/>
            <a:gdLst/>
            <a:ahLst/>
            <a:rect l="l" t="t" r="r" b="b"/>
            <a:pathLst>
              <a:path w="1637" h="1832">
                <a:moveTo>
                  <a:pt x="0" y="1831"/>
                </a:moveTo>
                <a:lnTo>
                  <a:pt x="413" y="1641"/>
                </a:lnTo>
                <a:lnTo>
                  <a:pt x="818" y="0"/>
                </a:lnTo>
                <a:lnTo>
                  <a:pt x="1231" y="1641"/>
                </a:lnTo>
                <a:lnTo>
                  <a:pt x="1636" y="1831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65680" y="2579760"/>
            <a:ext cx="1665360" cy="2908080"/>
          </a:xfrm>
          <a:custGeom>
            <a:avLst/>
            <a:gdLst/>
            <a:ahLst/>
            <a:rect l="l" t="t" r="r" b="b"/>
            <a:pathLst>
              <a:path w="1049" h="1832">
                <a:moveTo>
                  <a:pt x="0" y="1831"/>
                </a:moveTo>
                <a:lnTo>
                  <a:pt x="18" y="1825"/>
                </a:lnTo>
                <a:lnTo>
                  <a:pt x="36" y="1825"/>
                </a:lnTo>
                <a:lnTo>
                  <a:pt x="46" y="1820"/>
                </a:lnTo>
                <a:lnTo>
                  <a:pt x="64" y="1820"/>
                </a:lnTo>
                <a:lnTo>
                  <a:pt x="83" y="1814"/>
                </a:lnTo>
                <a:lnTo>
                  <a:pt x="101" y="1809"/>
                </a:lnTo>
                <a:lnTo>
                  <a:pt x="110" y="1809"/>
                </a:lnTo>
                <a:lnTo>
                  <a:pt x="128" y="1803"/>
                </a:lnTo>
                <a:lnTo>
                  <a:pt x="147" y="1797"/>
                </a:lnTo>
                <a:lnTo>
                  <a:pt x="165" y="1792"/>
                </a:lnTo>
                <a:lnTo>
                  <a:pt x="184" y="1786"/>
                </a:lnTo>
                <a:lnTo>
                  <a:pt x="193" y="1781"/>
                </a:lnTo>
                <a:lnTo>
                  <a:pt x="212" y="1775"/>
                </a:lnTo>
                <a:lnTo>
                  <a:pt x="229" y="1769"/>
                </a:lnTo>
                <a:lnTo>
                  <a:pt x="247" y="1758"/>
                </a:lnTo>
                <a:lnTo>
                  <a:pt x="257" y="1753"/>
                </a:lnTo>
                <a:lnTo>
                  <a:pt x="276" y="1741"/>
                </a:lnTo>
                <a:lnTo>
                  <a:pt x="294" y="1736"/>
                </a:lnTo>
                <a:lnTo>
                  <a:pt x="312" y="1725"/>
                </a:lnTo>
                <a:lnTo>
                  <a:pt x="331" y="1713"/>
                </a:lnTo>
                <a:lnTo>
                  <a:pt x="339" y="1702"/>
                </a:lnTo>
                <a:lnTo>
                  <a:pt x="358" y="1691"/>
                </a:lnTo>
                <a:lnTo>
                  <a:pt x="376" y="1674"/>
                </a:lnTo>
                <a:lnTo>
                  <a:pt x="395" y="1657"/>
                </a:lnTo>
                <a:lnTo>
                  <a:pt x="413" y="1641"/>
                </a:lnTo>
                <a:lnTo>
                  <a:pt x="423" y="1624"/>
                </a:lnTo>
                <a:lnTo>
                  <a:pt x="441" y="1601"/>
                </a:lnTo>
                <a:lnTo>
                  <a:pt x="460" y="1579"/>
                </a:lnTo>
                <a:lnTo>
                  <a:pt x="478" y="1551"/>
                </a:lnTo>
                <a:lnTo>
                  <a:pt x="487" y="1523"/>
                </a:lnTo>
                <a:lnTo>
                  <a:pt x="505" y="1489"/>
                </a:lnTo>
                <a:lnTo>
                  <a:pt x="524" y="1456"/>
                </a:lnTo>
                <a:lnTo>
                  <a:pt x="542" y="1417"/>
                </a:lnTo>
                <a:lnTo>
                  <a:pt x="560" y="1366"/>
                </a:lnTo>
                <a:lnTo>
                  <a:pt x="569" y="1316"/>
                </a:lnTo>
                <a:lnTo>
                  <a:pt x="587" y="1260"/>
                </a:lnTo>
                <a:lnTo>
                  <a:pt x="606" y="1198"/>
                </a:lnTo>
                <a:lnTo>
                  <a:pt x="624" y="1125"/>
                </a:lnTo>
                <a:lnTo>
                  <a:pt x="634" y="1041"/>
                </a:lnTo>
                <a:lnTo>
                  <a:pt x="652" y="952"/>
                </a:lnTo>
                <a:lnTo>
                  <a:pt x="671" y="851"/>
                </a:lnTo>
                <a:lnTo>
                  <a:pt x="689" y="745"/>
                </a:lnTo>
                <a:lnTo>
                  <a:pt x="708" y="627"/>
                </a:lnTo>
                <a:lnTo>
                  <a:pt x="716" y="504"/>
                </a:lnTo>
                <a:lnTo>
                  <a:pt x="735" y="381"/>
                </a:lnTo>
                <a:lnTo>
                  <a:pt x="753" y="263"/>
                </a:lnTo>
                <a:lnTo>
                  <a:pt x="771" y="157"/>
                </a:lnTo>
                <a:lnTo>
                  <a:pt x="781" y="73"/>
                </a:lnTo>
                <a:lnTo>
                  <a:pt x="800" y="17"/>
                </a:lnTo>
                <a:lnTo>
                  <a:pt x="818" y="0"/>
                </a:lnTo>
                <a:lnTo>
                  <a:pt x="836" y="17"/>
                </a:lnTo>
                <a:lnTo>
                  <a:pt x="855" y="73"/>
                </a:lnTo>
                <a:lnTo>
                  <a:pt x="863" y="157"/>
                </a:lnTo>
                <a:lnTo>
                  <a:pt x="882" y="263"/>
                </a:lnTo>
                <a:lnTo>
                  <a:pt x="900" y="381"/>
                </a:lnTo>
                <a:lnTo>
                  <a:pt x="919" y="504"/>
                </a:lnTo>
                <a:lnTo>
                  <a:pt x="927" y="627"/>
                </a:lnTo>
                <a:lnTo>
                  <a:pt x="946" y="745"/>
                </a:lnTo>
                <a:lnTo>
                  <a:pt x="964" y="851"/>
                </a:lnTo>
                <a:lnTo>
                  <a:pt x="983" y="952"/>
                </a:lnTo>
                <a:lnTo>
                  <a:pt x="1001" y="1041"/>
                </a:lnTo>
                <a:lnTo>
                  <a:pt x="1011" y="1125"/>
                </a:lnTo>
                <a:lnTo>
                  <a:pt x="1029" y="1198"/>
                </a:lnTo>
                <a:lnTo>
                  <a:pt x="1048" y="126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29600" y="4579920"/>
            <a:ext cx="934920" cy="907920"/>
          </a:xfrm>
          <a:custGeom>
            <a:avLst/>
            <a:gdLst/>
            <a:ahLst/>
            <a:rect l="l" t="t" r="r" b="b"/>
            <a:pathLst>
              <a:path w="589" h="572">
                <a:moveTo>
                  <a:pt x="0" y="0"/>
                </a:moveTo>
                <a:lnTo>
                  <a:pt x="18" y="56"/>
                </a:lnTo>
                <a:lnTo>
                  <a:pt x="27" y="106"/>
                </a:lnTo>
                <a:lnTo>
                  <a:pt x="45" y="157"/>
                </a:lnTo>
                <a:lnTo>
                  <a:pt x="63" y="196"/>
                </a:lnTo>
                <a:lnTo>
                  <a:pt x="82" y="229"/>
                </a:lnTo>
                <a:lnTo>
                  <a:pt x="100" y="263"/>
                </a:lnTo>
                <a:lnTo>
                  <a:pt x="110" y="291"/>
                </a:lnTo>
                <a:lnTo>
                  <a:pt x="128" y="319"/>
                </a:lnTo>
                <a:lnTo>
                  <a:pt x="146" y="341"/>
                </a:lnTo>
                <a:lnTo>
                  <a:pt x="164" y="364"/>
                </a:lnTo>
                <a:lnTo>
                  <a:pt x="183" y="381"/>
                </a:lnTo>
                <a:lnTo>
                  <a:pt x="192" y="397"/>
                </a:lnTo>
                <a:lnTo>
                  <a:pt x="211" y="414"/>
                </a:lnTo>
                <a:lnTo>
                  <a:pt x="229" y="431"/>
                </a:lnTo>
                <a:lnTo>
                  <a:pt x="247" y="442"/>
                </a:lnTo>
                <a:lnTo>
                  <a:pt x="256" y="453"/>
                </a:lnTo>
                <a:lnTo>
                  <a:pt x="275" y="465"/>
                </a:lnTo>
                <a:lnTo>
                  <a:pt x="293" y="476"/>
                </a:lnTo>
                <a:lnTo>
                  <a:pt x="311" y="481"/>
                </a:lnTo>
                <a:lnTo>
                  <a:pt x="330" y="493"/>
                </a:lnTo>
                <a:lnTo>
                  <a:pt x="340" y="498"/>
                </a:lnTo>
                <a:lnTo>
                  <a:pt x="358" y="509"/>
                </a:lnTo>
                <a:lnTo>
                  <a:pt x="376" y="515"/>
                </a:lnTo>
                <a:lnTo>
                  <a:pt x="395" y="521"/>
                </a:lnTo>
                <a:lnTo>
                  <a:pt x="403" y="526"/>
                </a:lnTo>
                <a:lnTo>
                  <a:pt x="422" y="532"/>
                </a:lnTo>
                <a:lnTo>
                  <a:pt x="440" y="537"/>
                </a:lnTo>
                <a:lnTo>
                  <a:pt x="459" y="543"/>
                </a:lnTo>
                <a:lnTo>
                  <a:pt x="477" y="549"/>
                </a:lnTo>
                <a:lnTo>
                  <a:pt x="486" y="549"/>
                </a:lnTo>
                <a:lnTo>
                  <a:pt x="504" y="554"/>
                </a:lnTo>
                <a:lnTo>
                  <a:pt x="523" y="560"/>
                </a:lnTo>
                <a:lnTo>
                  <a:pt x="541" y="560"/>
                </a:lnTo>
                <a:lnTo>
                  <a:pt x="551" y="565"/>
                </a:lnTo>
                <a:lnTo>
                  <a:pt x="569" y="565"/>
                </a:lnTo>
                <a:lnTo>
                  <a:pt x="588" y="571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80280" y="2135160"/>
            <a:ext cx="120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pline line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59120" y="257976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55616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5912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5616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5912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95912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5912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27640" y="5565600"/>
            <a:ext cx="302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25764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5764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9816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55616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55616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9668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59120" y="56023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512960" y="56023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19480" y="5459400"/>
            <a:ext cx="407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59120" y="5165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4512960" y="5165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19480" y="5024520"/>
            <a:ext cx="407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59120" y="47401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512960" y="47401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83720" y="459756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59120" y="4303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512960" y="4303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93280" y="41623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59120" y="387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512960" y="387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93280" y="373536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959120" y="34416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512960" y="34416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93280" y="329868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959120" y="3014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512960" y="3014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93280" y="28735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120" y="257976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512960" y="257976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83720" y="243684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120" y="257976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55616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5912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5616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0080" y="4659480"/>
            <a:ext cx="117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959120" y="46245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00080" y="4624560"/>
            <a:ext cx="1177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99720" y="4624560"/>
            <a:ext cx="1177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57440" y="443700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16120" y="440208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57440" y="440208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557440" y="440208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98960" y="257976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57640" y="254304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98960" y="254304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198960" y="254304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55960" y="44370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14640" y="440208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55960" y="440208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855960" y="440208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97480" y="465948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56160" y="46245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97480" y="46245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4497480" y="46245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59120" y="2579760"/>
            <a:ext cx="1663560" cy="2979720"/>
          </a:xfrm>
          <a:custGeom>
            <a:avLst/>
            <a:gdLst/>
            <a:ahLst/>
            <a:rect l="l" t="t" r="r" b="b"/>
            <a:pathLst>
              <a:path w="1048" h="1877">
                <a:moveTo>
                  <a:pt x="0" y="1310"/>
                </a:moveTo>
                <a:lnTo>
                  <a:pt x="18" y="1428"/>
                </a:lnTo>
                <a:lnTo>
                  <a:pt x="36" y="1529"/>
                </a:lnTo>
                <a:lnTo>
                  <a:pt x="45" y="1618"/>
                </a:lnTo>
                <a:lnTo>
                  <a:pt x="63" y="1691"/>
                </a:lnTo>
                <a:lnTo>
                  <a:pt x="82" y="1753"/>
                </a:lnTo>
                <a:lnTo>
                  <a:pt x="100" y="1803"/>
                </a:lnTo>
                <a:lnTo>
                  <a:pt x="110" y="1837"/>
                </a:lnTo>
                <a:lnTo>
                  <a:pt x="128" y="1859"/>
                </a:lnTo>
                <a:lnTo>
                  <a:pt x="147" y="1870"/>
                </a:lnTo>
                <a:lnTo>
                  <a:pt x="165" y="1876"/>
                </a:lnTo>
                <a:lnTo>
                  <a:pt x="184" y="1870"/>
                </a:lnTo>
                <a:lnTo>
                  <a:pt x="192" y="1853"/>
                </a:lnTo>
                <a:lnTo>
                  <a:pt x="211" y="1831"/>
                </a:lnTo>
                <a:lnTo>
                  <a:pt x="229" y="1803"/>
                </a:lnTo>
                <a:lnTo>
                  <a:pt x="247" y="1769"/>
                </a:lnTo>
                <a:lnTo>
                  <a:pt x="257" y="1725"/>
                </a:lnTo>
                <a:lnTo>
                  <a:pt x="276" y="1680"/>
                </a:lnTo>
                <a:lnTo>
                  <a:pt x="294" y="1624"/>
                </a:lnTo>
                <a:lnTo>
                  <a:pt x="311" y="1568"/>
                </a:lnTo>
                <a:lnTo>
                  <a:pt x="330" y="1512"/>
                </a:lnTo>
                <a:lnTo>
                  <a:pt x="339" y="1445"/>
                </a:lnTo>
                <a:lnTo>
                  <a:pt x="358" y="1383"/>
                </a:lnTo>
                <a:lnTo>
                  <a:pt x="376" y="1310"/>
                </a:lnTo>
                <a:lnTo>
                  <a:pt x="395" y="1243"/>
                </a:lnTo>
                <a:lnTo>
                  <a:pt x="413" y="1170"/>
                </a:lnTo>
                <a:lnTo>
                  <a:pt x="422" y="1103"/>
                </a:lnTo>
                <a:lnTo>
                  <a:pt x="440" y="1030"/>
                </a:lnTo>
                <a:lnTo>
                  <a:pt x="459" y="957"/>
                </a:lnTo>
                <a:lnTo>
                  <a:pt x="477" y="885"/>
                </a:lnTo>
                <a:lnTo>
                  <a:pt x="487" y="817"/>
                </a:lnTo>
                <a:lnTo>
                  <a:pt x="505" y="745"/>
                </a:lnTo>
                <a:lnTo>
                  <a:pt x="524" y="677"/>
                </a:lnTo>
                <a:lnTo>
                  <a:pt x="542" y="610"/>
                </a:lnTo>
                <a:lnTo>
                  <a:pt x="560" y="549"/>
                </a:lnTo>
                <a:lnTo>
                  <a:pt x="569" y="487"/>
                </a:lnTo>
                <a:lnTo>
                  <a:pt x="587" y="425"/>
                </a:lnTo>
                <a:lnTo>
                  <a:pt x="606" y="375"/>
                </a:lnTo>
                <a:lnTo>
                  <a:pt x="624" y="319"/>
                </a:lnTo>
                <a:lnTo>
                  <a:pt x="633" y="269"/>
                </a:lnTo>
                <a:lnTo>
                  <a:pt x="651" y="224"/>
                </a:lnTo>
                <a:lnTo>
                  <a:pt x="670" y="185"/>
                </a:lnTo>
                <a:lnTo>
                  <a:pt x="688" y="145"/>
                </a:lnTo>
                <a:lnTo>
                  <a:pt x="707" y="112"/>
                </a:lnTo>
                <a:lnTo>
                  <a:pt x="716" y="84"/>
                </a:lnTo>
                <a:lnTo>
                  <a:pt x="735" y="56"/>
                </a:lnTo>
                <a:lnTo>
                  <a:pt x="753" y="39"/>
                </a:lnTo>
                <a:lnTo>
                  <a:pt x="771" y="22"/>
                </a:lnTo>
                <a:lnTo>
                  <a:pt x="780" y="11"/>
                </a:lnTo>
                <a:lnTo>
                  <a:pt x="799" y="0"/>
                </a:lnTo>
                <a:lnTo>
                  <a:pt x="817" y="0"/>
                </a:lnTo>
                <a:lnTo>
                  <a:pt x="835" y="0"/>
                </a:lnTo>
                <a:lnTo>
                  <a:pt x="854" y="11"/>
                </a:lnTo>
                <a:lnTo>
                  <a:pt x="864" y="22"/>
                </a:lnTo>
                <a:lnTo>
                  <a:pt x="882" y="39"/>
                </a:lnTo>
                <a:lnTo>
                  <a:pt x="900" y="56"/>
                </a:lnTo>
                <a:lnTo>
                  <a:pt x="919" y="84"/>
                </a:lnTo>
                <a:lnTo>
                  <a:pt x="927" y="112"/>
                </a:lnTo>
                <a:lnTo>
                  <a:pt x="946" y="145"/>
                </a:lnTo>
                <a:lnTo>
                  <a:pt x="964" y="185"/>
                </a:lnTo>
                <a:lnTo>
                  <a:pt x="983" y="224"/>
                </a:lnTo>
                <a:lnTo>
                  <a:pt x="1001" y="269"/>
                </a:lnTo>
                <a:lnTo>
                  <a:pt x="1010" y="319"/>
                </a:lnTo>
                <a:lnTo>
                  <a:pt x="1028" y="375"/>
                </a:lnTo>
                <a:lnTo>
                  <a:pt x="1047" y="425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21240" y="3254400"/>
            <a:ext cx="936360" cy="2305080"/>
          </a:xfrm>
          <a:custGeom>
            <a:avLst/>
            <a:gdLst/>
            <a:ahLst/>
            <a:rect l="l" t="t" r="r" b="b"/>
            <a:pathLst>
              <a:path w="590" h="1452">
                <a:moveTo>
                  <a:pt x="0" y="0"/>
                </a:moveTo>
                <a:lnTo>
                  <a:pt x="18" y="62"/>
                </a:lnTo>
                <a:lnTo>
                  <a:pt x="28" y="124"/>
                </a:lnTo>
                <a:lnTo>
                  <a:pt x="46" y="185"/>
                </a:lnTo>
                <a:lnTo>
                  <a:pt x="65" y="252"/>
                </a:lnTo>
                <a:lnTo>
                  <a:pt x="83" y="320"/>
                </a:lnTo>
                <a:lnTo>
                  <a:pt x="101" y="392"/>
                </a:lnTo>
                <a:lnTo>
                  <a:pt x="110" y="460"/>
                </a:lnTo>
                <a:lnTo>
                  <a:pt x="129" y="532"/>
                </a:lnTo>
                <a:lnTo>
                  <a:pt x="147" y="605"/>
                </a:lnTo>
                <a:lnTo>
                  <a:pt x="165" y="678"/>
                </a:lnTo>
                <a:lnTo>
                  <a:pt x="184" y="745"/>
                </a:lnTo>
                <a:lnTo>
                  <a:pt x="194" y="818"/>
                </a:lnTo>
                <a:lnTo>
                  <a:pt x="212" y="885"/>
                </a:lnTo>
                <a:lnTo>
                  <a:pt x="229" y="958"/>
                </a:lnTo>
                <a:lnTo>
                  <a:pt x="248" y="1020"/>
                </a:lnTo>
                <a:lnTo>
                  <a:pt x="258" y="1087"/>
                </a:lnTo>
                <a:lnTo>
                  <a:pt x="276" y="1143"/>
                </a:lnTo>
                <a:lnTo>
                  <a:pt x="295" y="1199"/>
                </a:lnTo>
                <a:lnTo>
                  <a:pt x="313" y="1255"/>
                </a:lnTo>
                <a:lnTo>
                  <a:pt x="331" y="1300"/>
                </a:lnTo>
                <a:lnTo>
                  <a:pt x="340" y="1344"/>
                </a:lnTo>
                <a:lnTo>
                  <a:pt x="359" y="1378"/>
                </a:lnTo>
                <a:lnTo>
                  <a:pt x="377" y="1406"/>
                </a:lnTo>
                <a:lnTo>
                  <a:pt x="395" y="1428"/>
                </a:lnTo>
                <a:lnTo>
                  <a:pt x="405" y="1445"/>
                </a:lnTo>
                <a:lnTo>
                  <a:pt x="424" y="1451"/>
                </a:lnTo>
                <a:lnTo>
                  <a:pt x="442" y="1445"/>
                </a:lnTo>
                <a:lnTo>
                  <a:pt x="461" y="1434"/>
                </a:lnTo>
                <a:lnTo>
                  <a:pt x="479" y="1412"/>
                </a:lnTo>
                <a:lnTo>
                  <a:pt x="488" y="1378"/>
                </a:lnTo>
                <a:lnTo>
                  <a:pt x="506" y="1328"/>
                </a:lnTo>
                <a:lnTo>
                  <a:pt x="525" y="1266"/>
                </a:lnTo>
                <a:lnTo>
                  <a:pt x="543" y="1193"/>
                </a:lnTo>
                <a:lnTo>
                  <a:pt x="552" y="1104"/>
                </a:lnTo>
                <a:lnTo>
                  <a:pt x="570" y="1003"/>
                </a:lnTo>
                <a:lnTo>
                  <a:pt x="589" y="885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59120" y="2579760"/>
            <a:ext cx="1663560" cy="2081160"/>
          </a:xfrm>
          <a:custGeom>
            <a:avLst/>
            <a:gdLst/>
            <a:ahLst/>
            <a:rect l="l" t="t" r="r" b="b"/>
            <a:pathLst>
              <a:path w="1048" h="1311">
                <a:moveTo>
                  <a:pt x="0" y="1310"/>
                </a:moveTo>
                <a:lnTo>
                  <a:pt x="18" y="1305"/>
                </a:lnTo>
                <a:lnTo>
                  <a:pt x="36" y="1305"/>
                </a:lnTo>
                <a:lnTo>
                  <a:pt x="45" y="1299"/>
                </a:lnTo>
                <a:lnTo>
                  <a:pt x="63" y="1299"/>
                </a:lnTo>
                <a:lnTo>
                  <a:pt x="82" y="1293"/>
                </a:lnTo>
                <a:lnTo>
                  <a:pt x="100" y="1293"/>
                </a:lnTo>
                <a:lnTo>
                  <a:pt x="110" y="1288"/>
                </a:lnTo>
                <a:lnTo>
                  <a:pt x="128" y="1288"/>
                </a:lnTo>
                <a:lnTo>
                  <a:pt x="147" y="1282"/>
                </a:lnTo>
                <a:lnTo>
                  <a:pt x="165" y="1282"/>
                </a:lnTo>
                <a:lnTo>
                  <a:pt x="184" y="1277"/>
                </a:lnTo>
                <a:lnTo>
                  <a:pt x="192" y="1271"/>
                </a:lnTo>
                <a:lnTo>
                  <a:pt x="211" y="1265"/>
                </a:lnTo>
                <a:lnTo>
                  <a:pt x="229" y="1260"/>
                </a:lnTo>
                <a:lnTo>
                  <a:pt x="247" y="1260"/>
                </a:lnTo>
                <a:lnTo>
                  <a:pt x="257" y="1254"/>
                </a:lnTo>
                <a:lnTo>
                  <a:pt x="276" y="1243"/>
                </a:lnTo>
                <a:lnTo>
                  <a:pt x="294" y="1237"/>
                </a:lnTo>
                <a:lnTo>
                  <a:pt x="311" y="1232"/>
                </a:lnTo>
                <a:lnTo>
                  <a:pt x="330" y="1226"/>
                </a:lnTo>
                <a:lnTo>
                  <a:pt x="339" y="1215"/>
                </a:lnTo>
                <a:lnTo>
                  <a:pt x="358" y="1204"/>
                </a:lnTo>
                <a:lnTo>
                  <a:pt x="376" y="1198"/>
                </a:lnTo>
                <a:lnTo>
                  <a:pt x="395" y="1187"/>
                </a:lnTo>
                <a:lnTo>
                  <a:pt x="413" y="1170"/>
                </a:lnTo>
                <a:lnTo>
                  <a:pt x="422" y="1159"/>
                </a:lnTo>
                <a:lnTo>
                  <a:pt x="440" y="1142"/>
                </a:lnTo>
                <a:lnTo>
                  <a:pt x="459" y="1125"/>
                </a:lnTo>
                <a:lnTo>
                  <a:pt x="477" y="1109"/>
                </a:lnTo>
                <a:lnTo>
                  <a:pt x="487" y="1086"/>
                </a:lnTo>
                <a:lnTo>
                  <a:pt x="505" y="1064"/>
                </a:lnTo>
                <a:lnTo>
                  <a:pt x="524" y="1041"/>
                </a:lnTo>
                <a:lnTo>
                  <a:pt x="542" y="1008"/>
                </a:lnTo>
                <a:lnTo>
                  <a:pt x="560" y="980"/>
                </a:lnTo>
                <a:lnTo>
                  <a:pt x="569" y="941"/>
                </a:lnTo>
                <a:lnTo>
                  <a:pt x="587" y="901"/>
                </a:lnTo>
                <a:lnTo>
                  <a:pt x="606" y="857"/>
                </a:lnTo>
                <a:lnTo>
                  <a:pt x="624" y="801"/>
                </a:lnTo>
                <a:lnTo>
                  <a:pt x="633" y="745"/>
                </a:lnTo>
                <a:lnTo>
                  <a:pt x="651" y="677"/>
                </a:lnTo>
                <a:lnTo>
                  <a:pt x="670" y="610"/>
                </a:lnTo>
                <a:lnTo>
                  <a:pt x="688" y="532"/>
                </a:lnTo>
                <a:lnTo>
                  <a:pt x="707" y="448"/>
                </a:lnTo>
                <a:lnTo>
                  <a:pt x="716" y="358"/>
                </a:lnTo>
                <a:lnTo>
                  <a:pt x="735" y="274"/>
                </a:lnTo>
                <a:lnTo>
                  <a:pt x="753" y="185"/>
                </a:lnTo>
                <a:lnTo>
                  <a:pt x="771" y="112"/>
                </a:lnTo>
                <a:lnTo>
                  <a:pt x="780" y="50"/>
                </a:lnTo>
                <a:lnTo>
                  <a:pt x="799" y="11"/>
                </a:lnTo>
                <a:lnTo>
                  <a:pt x="817" y="0"/>
                </a:lnTo>
                <a:lnTo>
                  <a:pt x="835" y="11"/>
                </a:lnTo>
                <a:lnTo>
                  <a:pt x="854" y="50"/>
                </a:lnTo>
                <a:lnTo>
                  <a:pt x="864" y="112"/>
                </a:lnTo>
                <a:lnTo>
                  <a:pt x="882" y="185"/>
                </a:lnTo>
                <a:lnTo>
                  <a:pt x="900" y="274"/>
                </a:lnTo>
                <a:lnTo>
                  <a:pt x="919" y="358"/>
                </a:lnTo>
                <a:lnTo>
                  <a:pt x="927" y="448"/>
                </a:lnTo>
                <a:lnTo>
                  <a:pt x="946" y="532"/>
                </a:lnTo>
                <a:lnTo>
                  <a:pt x="964" y="610"/>
                </a:lnTo>
                <a:lnTo>
                  <a:pt x="983" y="677"/>
                </a:lnTo>
                <a:lnTo>
                  <a:pt x="1001" y="745"/>
                </a:lnTo>
                <a:lnTo>
                  <a:pt x="1010" y="801"/>
                </a:lnTo>
                <a:lnTo>
                  <a:pt x="1028" y="857"/>
                </a:lnTo>
                <a:lnTo>
                  <a:pt x="1047" y="901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21240" y="4010040"/>
            <a:ext cx="936360" cy="650880"/>
          </a:xfrm>
          <a:custGeom>
            <a:avLst/>
            <a:gdLst/>
            <a:ahLst/>
            <a:rect l="l" t="t" r="r" b="b"/>
            <a:pathLst>
              <a:path w="590" h="410">
                <a:moveTo>
                  <a:pt x="0" y="0"/>
                </a:moveTo>
                <a:lnTo>
                  <a:pt x="18" y="40"/>
                </a:lnTo>
                <a:lnTo>
                  <a:pt x="28" y="79"/>
                </a:lnTo>
                <a:lnTo>
                  <a:pt x="46" y="107"/>
                </a:lnTo>
                <a:lnTo>
                  <a:pt x="65" y="140"/>
                </a:lnTo>
                <a:lnTo>
                  <a:pt x="83" y="163"/>
                </a:lnTo>
                <a:lnTo>
                  <a:pt x="101" y="185"/>
                </a:lnTo>
                <a:lnTo>
                  <a:pt x="110" y="208"/>
                </a:lnTo>
                <a:lnTo>
                  <a:pt x="129" y="224"/>
                </a:lnTo>
                <a:lnTo>
                  <a:pt x="147" y="241"/>
                </a:lnTo>
                <a:lnTo>
                  <a:pt x="165" y="258"/>
                </a:lnTo>
                <a:lnTo>
                  <a:pt x="184" y="269"/>
                </a:lnTo>
                <a:lnTo>
                  <a:pt x="194" y="286"/>
                </a:lnTo>
                <a:lnTo>
                  <a:pt x="212" y="297"/>
                </a:lnTo>
                <a:lnTo>
                  <a:pt x="229" y="303"/>
                </a:lnTo>
                <a:lnTo>
                  <a:pt x="248" y="314"/>
                </a:lnTo>
                <a:lnTo>
                  <a:pt x="258" y="325"/>
                </a:lnTo>
                <a:lnTo>
                  <a:pt x="276" y="331"/>
                </a:lnTo>
                <a:lnTo>
                  <a:pt x="295" y="336"/>
                </a:lnTo>
                <a:lnTo>
                  <a:pt x="313" y="342"/>
                </a:lnTo>
                <a:lnTo>
                  <a:pt x="331" y="353"/>
                </a:lnTo>
                <a:lnTo>
                  <a:pt x="340" y="359"/>
                </a:lnTo>
                <a:lnTo>
                  <a:pt x="359" y="359"/>
                </a:lnTo>
                <a:lnTo>
                  <a:pt x="377" y="364"/>
                </a:lnTo>
                <a:lnTo>
                  <a:pt x="395" y="370"/>
                </a:lnTo>
                <a:lnTo>
                  <a:pt x="405" y="376"/>
                </a:lnTo>
                <a:lnTo>
                  <a:pt x="424" y="381"/>
                </a:lnTo>
                <a:lnTo>
                  <a:pt x="442" y="381"/>
                </a:lnTo>
                <a:lnTo>
                  <a:pt x="461" y="387"/>
                </a:lnTo>
                <a:lnTo>
                  <a:pt x="479" y="387"/>
                </a:lnTo>
                <a:lnTo>
                  <a:pt x="488" y="392"/>
                </a:lnTo>
                <a:lnTo>
                  <a:pt x="506" y="392"/>
                </a:lnTo>
                <a:lnTo>
                  <a:pt x="525" y="398"/>
                </a:lnTo>
                <a:lnTo>
                  <a:pt x="543" y="398"/>
                </a:lnTo>
                <a:lnTo>
                  <a:pt x="552" y="404"/>
                </a:lnTo>
                <a:lnTo>
                  <a:pt x="570" y="404"/>
                </a:lnTo>
                <a:lnTo>
                  <a:pt x="589" y="409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40720" y="2135160"/>
            <a:ext cx="169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inomio grado 4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4191120" y="5867280"/>
          <a:ext cx="1600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5867280"/>
                    <a:ext cx="1600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Splines Cúbic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90720" y="1219320"/>
            <a:ext cx="8420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d333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Spline cúb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d33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4n</a:t>
            </a:r>
            <a:r>
              <a:rPr b="1" lang="es-ES_tradnl" sz="2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incógni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d333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Condiciones de interpol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n+1 ecuaci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d333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Condiciones de conex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                     </a:t>
            </a: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3(n-1) ecuaci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47920" y="1981080"/>
          <a:ext cx="7681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7681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1752480" y="3124080"/>
          <a:ext cx="16002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124080"/>
                    <a:ext cx="16002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1523880" y="4038480"/>
          <a:ext cx="3075120" cy="19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038480"/>
                    <a:ext cx="30751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066680" y="1447920"/>
            <a:ext cx="8458200" cy="4572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328040" y="4648320"/>
            <a:ext cx="5581080" cy="1110600"/>
            <a:chOff x="1328040" y="4648320"/>
            <a:chExt cx="5581080" cy="1110600"/>
          </a:xfrm>
        </p:grpSpPr>
        <p:sp>
          <p:nvSpPr>
            <p:cNvPr id="605" name=""/>
            <p:cNvSpPr/>
            <p:nvPr/>
          </p:nvSpPr>
          <p:spPr>
            <a:xfrm>
              <a:off x="1838520" y="518652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24400" y="5186520"/>
              <a:ext cx="70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40960" y="51814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74560" y="492264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79680" y="492264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28640" y="51814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08480" y="492264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67000" y="492264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69560" y="54230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9344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9496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61920" y="54230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2700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8408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34200" y="516420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23920" y="542304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49320" y="516420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28040" y="4922640"/>
              <a:ext cx="466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19760" y="4922640"/>
              <a:ext cx="30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26240" y="4922640"/>
              <a:ext cx="30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09240" y="4922640"/>
              <a:ext cx="30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6956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33360" y="54230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5588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44280" y="4648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55800" y="4648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30200" y="492264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73160" y="492264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62320" y="492264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05280" y="492264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1142280" y="3809880"/>
            <a:ext cx="6132600" cy="720000"/>
            <a:chOff x="1142280" y="3809880"/>
            <a:chExt cx="6132600" cy="720000"/>
          </a:xfrm>
        </p:grpSpPr>
        <p:sp>
          <p:nvSpPr>
            <p:cNvPr id="636" name=""/>
            <p:cNvSpPr/>
            <p:nvPr/>
          </p:nvSpPr>
          <p:spPr>
            <a:xfrm>
              <a:off x="1142280" y="38098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96760" y="380988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31720" y="38098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14240" y="38098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97080" y="380988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700240" y="38098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080" y="380988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8672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1060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7112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5076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0948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4432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0792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58440" y="419400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82320" y="419400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47520" y="419400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55160" y="419400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19280" y="3809880"/>
              <a:ext cx="39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81240" y="3809880"/>
              <a:ext cx="39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67240" y="3809880"/>
              <a:ext cx="39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7256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968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6164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9700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34640" y="38098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60360" y="380988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41560" y="380988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07960" y="3809880"/>
              <a:ext cx="466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4448160" cy="4539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8431200" cy="9237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1066680" y="3124080"/>
            <a:ext cx="6618240" cy="455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330120" y="838080"/>
            <a:ext cx="8832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0"/>
              </a:spcBef>
              <a:spcAft>
                <a:spcPts val="40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248520" y="1600200"/>
          <a:ext cx="2235240" cy="43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1600200"/>
                    <a:ext cx="22352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1" name="" descr=""/>
          <p:cNvPicPr/>
          <p:nvPr/>
        </p:nvPicPr>
        <p:blipFill>
          <a:blip r:embed="rId6"/>
          <a:stretch/>
        </p:blipFill>
        <p:spPr>
          <a:xfrm>
            <a:off x="1219320" y="838080"/>
            <a:ext cx="7856280" cy="4860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295280" y="5867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n-1 ecuaciones y n+1 incógni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97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Condiciones Natural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5600" y="2438280"/>
            <a:ext cx="7842240" cy="175284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238400" y="1739880"/>
          <a:ext cx="7842240" cy="260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739880"/>
                    <a:ext cx="78422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2895480" y="4495680"/>
            <a:ext cx="3880080" cy="91440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2362320" y="4572000"/>
          <a:ext cx="4995720" cy="8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572000"/>
                    <a:ext cx="4995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57200" y="762120"/>
            <a:ext cx="89708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Matriz del sistem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1066680" y="2133720"/>
          <a:ext cx="84582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84582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2133720" y="1752480"/>
          <a:ext cx="589896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52480"/>
                    <a:ext cx="589896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97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Términos independient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27280" y="2743200"/>
            <a:ext cx="6324480" cy="685800"/>
          </a:xfrm>
          <a:prstGeom prst="rect">
            <a:avLst/>
          </a:prstGeom>
          <a:gradFill rotWithShape="0">
            <a:gsLst>
              <a:gs pos="0">
                <a:srgbClr val="ce9964"/>
              </a:gs>
              <a:gs pos="100000">
                <a:srgbClr val="fbfa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17520" y="2751120"/>
          <a:ext cx="7531200" cy="75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2751120"/>
                    <a:ext cx="75312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62120" y="6858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Un problema de Aproximación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981080"/>
            <a:ext cx="817884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volución de la temperatura diurn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727280" y="3875040"/>
            <a:ext cx="6235560" cy="2482560"/>
            <a:chOff x="1727280" y="3875040"/>
            <a:chExt cx="6235560" cy="2482560"/>
          </a:xfrm>
        </p:grpSpPr>
        <p:sp>
          <p:nvSpPr>
            <p:cNvPr id="105" name=""/>
            <p:cNvSpPr/>
            <p:nvPr/>
          </p:nvSpPr>
          <p:spPr>
            <a:xfrm flipV="1">
              <a:off x="2540160" y="3968640"/>
              <a:ext cx="0" cy="18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418520" y="3968640"/>
              <a:ext cx="0" cy="18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40160" y="576108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40160" y="396864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40160" y="3968640"/>
              <a:ext cx="4879800" cy="1882800"/>
            </a:xfrm>
            <a:custGeom>
              <a:avLst/>
              <a:gdLst/>
              <a:ahLst/>
              <a:rect l="l" t="t" r="r" b="b"/>
              <a:pathLst>
                <a:path w="3074" h="1186">
                  <a:moveTo>
                    <a:pt x="0" y="1185"/>
                  </a:moveTo>
                  <a:lnTo>
                    <a:pt x="0" y="0"/>
                  </a:lnTo>
                  <a:lnTo>
                    <a:pt x="307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40160" y="3968640"/>
              <a:ext cx="4879800" cy="1882800"/>
            </a:xfrm>
            <a:custGeom>
              <a:avLst/>
              <a:gdLst/>
              <a:ahLst/>
              <a:rect l="l" t="t" r="r" b="b"/>
              <a:pathLst>
                <a:path w="3074" h="1186">
                  <a:moveTo>
                    <a:pt x="0" y="1185"/>
                  </a:moveTo>
                  <a:lnTo>
                    <a:pt x="0" y="0"/>
                  </a:lnTo>
                  <a:lnTo>
                    <a:pt x="307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40160" y="576108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40160" y="396864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540160" y="3968640"/>
              <a:ext cx="0" cy="18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418520" y="3968640"/>
              <a:ext cx="0" cy="18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40160" y="396864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18520" y="57610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40160" y="576108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540160" y="3968640"/>
              <a:ext cx="0" cy="18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40160" y="57610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54016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016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07980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7980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62736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2736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16556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6556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70520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0520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25312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5312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579276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276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33096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3096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88032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8032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41852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1852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40160" y="57610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370280" y="57610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0160" y="5538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370280" y="55389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40160" y="53132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370280" y="53132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40160" y="5092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370280" y="50925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0160" y="4863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370280" y="48639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40160" y="46432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370280" y="46432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0160" y="44179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370280" y="441792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40160" y="41958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370280" y="41958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40160" y="39686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370280" y="39686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40160" y="396864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40160" y="57610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18520" y="396864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1640" y="5649840"/>
              <a:ext cx="74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9800" y="562932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1640" y="5629320"/>
              <a:ext cx="7452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9200" y="5424480"/>
              <a:ext cx="76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27360" y="5403960"/>
              <a:ext cx="0" cy="41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9200" y="5403960"/>
              <a:ext cx="76320" cy="41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9200" y="5092560"/>
              <a:ext cx="74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5560" y="507060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29200" y="5070600"/>
              <a:ext cx="7452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67400" y="4417920"/>
              <a:ext cx="75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05200" y="439596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7400" y="4395960"/>
              <a:ext cx="7596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14960" y="4079880"/>
              <a:ext cx="76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53120" y="405936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4960" y="4059360"/>
              <a:ext cx="7632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4600" y="4307040"/>
              <a:ext cx="76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2760" y="4284720"/>
              <a:ext cx="0" cy="4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54600" y="4284720"/>
              <a:ext cx="76320" cy="4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92800" y="4754520"/>
              <a:ext cx="76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30960" y="473400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92800" y="4734000"/>
              <a:ext cx="7632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2160" y="5313240"/>
              <a:ext cx="74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80320" y="529128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727280" y="3875040"/>
              <a:ext cx="6235560" cy="2482560"/>
              <a:chOff x="1727280" y="3875040"/>
              <a:chExt cx="6235560" cy="248256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6841800" y="5291280"/>
                <a:ext cx="74520" cy="44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1727280" y="3875040"/>
                <a:ext cx="6235560" cy="2482560"/>
                <a:chOff x="1727280" y="3875040"/>
                <a:chExt cx="6235560" cy="2482560"/>
              </a:xfrm>
            </p:grpSpPr>
            <p:sp>
              <p:nvSpPr>
                <p:cNvPr id="187" name=""/>
                <p:cNvSpPr/>
                <p:nvPr/>
              </p:nvSpPr>
              <p:spPr>
                <a:xfrm flipH="1">
                  <a:off x="6292800" y="4734000"/>
                  <a:ext cx="76320" cy="442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1727280" y="3875040"/>
                  <a:ext cx="6235560" cy="2482560"/>
                  <a:chOff x="1727280" y="3875040"/>
                  <a:chExt cx="6235560" cy="24825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>
                    <a:off x="5754600" y="4284720"/>
                    <a:ext cx="76320" cy="4608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1727280" y="3875040"/>
                    <a:ext cx="6235560" cy="2482560"/>
                    <a:chOff x="1727280" y="3875040"/>
                    <a:chExt cx="6235560" cy="248256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flipH="1">
                      <a:off x="5214960" y="4059360"/>
                      <a:ext cx="76320" cy="4428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2" name=""/>
                    <p:cNvGrpSpPr/>
                    <p:nvPr/>
                  </p:nvGrpSpPr>
                  <p:grpSpPr>
                    <a:xfrm>
                      <a:off x="1727280" y="3875040"/>
                      <a:ext cx="6235560" cy="2482560"/>
                      <a:chOff x="1727280" y="3875040"/>
                      <a:chExt cx="6235560" cy="2482560"/>
                    </a:xfrm>
                  </p:grpSpPr>
                  <p:sp>
                    <p:nvSpPr>
                      <p:cNvPr id="193" name=""/>
                      <p:cNvSpPr/>
                      <p:nvPr/>
                    </p:nvSpPr>
                    <p:spPr>
                      <a:xfrm flipH="1">
                        <a:off x="4667040" y="4395960"/>
                        <a:ext cx="7596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4" name=""/>
                      <p:cNvGrpSpPr/>
                      <p:nvPr/>
                    </p:nvGrpSpPr>
                    <p:grpSpPr>
                      <a:xfrm>
                        <a:off x="1727280" y="3875040"/>
                        <a:ext cx="6235560" cy="2482560"/>
                        <a:chOff x="1727280" y="3875040"/>
                        <a:chExt cx="6235560" cy="2482560"/>
                      </a:xfrm>
                    </p:grpSpPr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4128840" y="5070600"/>
                          <a:ext cx="7452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02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96" name=""/>
                        <p:cNvGrpSpPr/>
                        <p:nvPr/>
                      </p:nvGrpSpPr>
                      <p:grpSpPr>
                        <a:xfrm>
                          <a:off x="1727280" y="3875040"/>
                          <a:ext cx="6235560" cy="2482560"/>
                          <a:chOff x="1727280" y="3875040"/>
                          <a:chExt cx="6235560" cy="2482560"/>
                        </a:xfrm>
                      </p:grpSpPr>
                      <p:sp>
                        <p:nvSpPr>
                          <p:cNvPr id="197" name=""/>
                          <p:cNvSpPr/>
                          <p:nvPr/>
                        </p:nvSpPr>
                        <p:spPr>
                          <a:xfrm flipH="1">
                            <a:off x="3041280" y="5629320"/>
                            <a:ext cx="74520" cy="44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402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 flipH="1">
                            <a:off x="3589200" y="5403960"/>
                            <a:ext cx="76320" cy="41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760" bIns="-57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402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99" name=""/>
                          <p:cNvGrpSpPr/>
                          <p:nvPr/>
                        </p:nvGrpSpPr>
                        <p:grpSpPr>
                          <a:xfrm>
                            <a:off x="1727280" y="3875040"/>
                            <a:ext cx="6235560" cy="2482560"/>
                            <a:chOff x="1727280" y="3875040"/>
                            <a:chExt cx="6235560" cy="2482560"/>
                          </a:xfrm>
                        </p:grpSpPr>
                        <p:sp>
                          <p:nvSpPr>
                            <p:cNvPr id="200" name=""/>
                            <p:cNvSpPr/>
                            <p:nvPr/>
                          </p:nvSpPr>
                          <p:spPr>
                            <a:xfrm>
                              <a:off x="2540160" y="553896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1" name=""/>
                            <p:cNvSpPr/>
                            <p:nvPr/>
                          </p:nvSpPr>
                          <p:spPr>
                            <a:xfrm>
                              <a:off x="2540160" y="531324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2" name=""/>
                            <p:cNvSpPr/>
                            <p:nvPr/>
                          </p:nvSpPr>
                          <p:spPr>
                            <a:xfrm>
                              <a:off x="2540160" y="509256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" name=""/>
                            <p:cNvSpPr/>
                            <p:nvPr/>
                          </p:nvSpPr>
                          <p:spPr>
                            <a:xfrm>
                              <a:off x="2540160" y="486396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>
                              <a:off x="2540160" y="464328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5" name=""/>
                            <p:cNvSpPr/>
                            <p:nvPr/>
                          </p:nvSpPr>
                          <p:spPr>
                            <a:xfrm>
                              <a:off x="2540160" y="441792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6" name=""/>
                            <p:cNvSpPr/>
                            <p:nvPr/>
                          </p:nvSpPr>
                          <p:spPr>
                            <a:xfrm>
                              <a:off x="2540160" y="419580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7" name=""/>
                            <p:cNvSpPr/>
                            <p:nvPr/>
                          </p:nvSpPr>
                          <p:spPr>
                            <a:xfrm>
                              <a:off x="2540160" y="3968640"/>
                              <a:ext cx="4879800" cy="1882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74" h="1186">
                                  <a:moveTo>
                                    <a:pt x="0" y="1185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3073" y="0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8" name=""/>
                            <p:cNvSpPr/>
                            <p:nvPr/>
                          </p:nvSpPr>
                          <p:spPr>
                            <a:xfrm>
                              <a:off x="2409840" y="5791320"/>
                              <a:ext cx="285840" cy="335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2160" rIns="92160" tIns="46080" bIns="4608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762120"/>
                                  <a:tab algn="l" pos="1523880"/>
                                  <a:tab algn="l" pos="2286000"/>
                                  <a:tab algn="l" pos="3048120"/>
                                  <a:tab algn="l" pos="3809880"/>
                                  <a:tab algn="l" pos="4572000"/>
                                  <a:tab algn="l" pos="5334120"/>
                                  <a:tab algn="l" pos="6095880"/>
                                  <a:tab algn="l" pos="6858000"/>
                                  <a:tab algn="l" pos="7620120"/>
                                  <a:tab algn="l" pos="8381880"/>
                                  <a:tab algn="l" pos="9144000"/>
                                  <a:tab algn="l" pos="9906120"/>
                                  <a:tab algn="l" pos="10667880"/>
                                </a:tabLst>
                              </a:pPr>
                              <a:r>
                                <a: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endParaRPr b="0" lang="en-US" sz="16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09" name=""/>
                            <p:cNvGrpSpPr/>
                            <p:nvPr/>
                          </p:nvGrpSpPr>
                          <p:grpSpPr>
                            <a:xfrm>
                              <a:off x="1727280" y="3875040"/>
                              <a:ext cx="6235560" cy="2482560"/>
                              <a:chOff x="1727280" y="3875040"/>
                              <a:chExt cx="6235560" cy="2482560"/>
                            </a:xfrm>
                          </p:grpSpPr>
                          <p:sp>
                            <p:nvSpPr>
                              <p:cNvPr id="210" name=""/>
                              <p:cNvSpPr/>
                              <p:nvPr/>
                            </p:nvSpPr>
                            <p:spPr>
                              <a:xfrm>
                                <a:off x="2184480" y="5445000"/>
                                <a:ext cx="284040" cy="335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2160" rIns="92160" tIns="46080" bIns="46080" anchor="t">
                                <a:sp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762120"/>
                                    <a:tab algn="l" pos="1523880"/>
                                    <a:tab algn="l" pos="2286000"/>
                                    <a:tab algn="l" pos="3048120"/>
                                    <a:tab algn="l" pos="3809880"/>
                                    <a:tab algn="l" pos="4572000"/>
                                    <a:tab algn="l" pos="5334120"/>
                                    <a:tab algn="l" pos="6095880"/>
                                    <a:tab algn="l" pos="6858000"/>
                                    <a:tab algn="l" pos="7620120"/>
                                    <a:tab algn="l" pos="8381880"/>
                                    <a:tab algn="l" pos="9144000"/>
                                    <a:tab algn="l" pos="9906120"/>
                                    <a:tab algn="l" pos="10667880"/>
                                  </a:tabLst>
                                </a:pPr>
                                <a:r>
                                  <a: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8</a:t>
                                </a:r>
                                <a:endParaRPr b="0" lang="en-US" sz="1600" spc="-1" strike="noStrike">
                                  <a:solidFill>
                                    <a:srgbClr val="402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"/>
                              <p:cNvSpPr/>
                              <p:nvPr/>
                            </p:nvSpPr>
                            <p:spPr>
                              <a:xfrm>
                                <a:off x="2097000" y="4102200"/>
                                <a:ext cx="387360" cy="5792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2160" rIns="92160" tIns="46080" bIns="4608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762120"/>
                                    <a:tab algn="l" pos="1523880"/>
                                    <a:tab algn="l" pos="2286000"/>
                                    <a:tab algn="l" pos="3048120"/>
                                    <a:tab algn="l" pos="3809880"/>
                                    <a:tab algn="l" pos="4572000"/>
                                    <a:tab algn="l" pos="5334120"/>
                                    <a:tab algn="l" pos="6095880"/>
                                    <a:tab algn="l" pos="6858000"/>
                                    <a:tab algn="l" pos="7620120"/>
                                    <a:tab algn="l" pos="8381880"/>
                                    <a:tab algn="l" pos="9144000"/>
                                    <a:tab algn="l" pos="9906120"/>
                                    <a:tab algn="l" pos="10667880"/>
                                  </a:tabLst>
                                </a:pPr>
                                <a:r>
                                  <a: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0</a:t>
                                </a:r>
                                <a:endParaRPr b="0" lang="en-US" sz="1600" spc="-1" strike="noStrike">
                                  <a:solidFill>
                                    <a:srgbClr val="402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12" name=""/>
                              <p:cNvGrpSpPr/>
                              <p:nvPr/>
                            </p:nvGrpSpPr>
                            <p:grpSpPr>
                              <a:xfrm>
                                <a:off x="1727280" y="3875040"/>
                                <a:ext cx="6235560" cy="2482560"/>
                                <a:chOff x="1727280" y="3875040"/>
                                <a:chExt cx="6235560" cy="2482560"/>
                              </a:xfrm>
                            </p:grpSpPr>
                            <p:sp>
                              <p:nvSpPr>
                                <p:cNvPr id="213" name=""/>
                                <p:cNvSpPr/>
                                <p:nvPr/>
                              </p:nvSpPr>
                              <p:spPr>
                                <a:xfrm>
                                  <a:off x="2949480" y="5778360"/>
                                  <a:ext cx="285840" cy="335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6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4" name=""/>
                                <p:cNvSpPr/>
                                <p:nvPr/>
                              </p:nvSpPr>
                              <p:spPr>
                                <a:xfrm>
                                  <a:off x="3497400" y="5778360"/>
                                  <a:ext cx="285480" cy="335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8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5" name=""/>
                                <p:cNvSpPr/>
                                <p:nvPr/>
                              </p:nvSpPr>
                              <p:spPr>
                                <a:xfrm>
                                  <a:off x="398952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0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6" name=""/>
                                <p:cNvSpPr/>
                                <p:nvPr/>
                              </p:nvSpPr>
                              <p:spPr>
                                <a:xfrm>
                                  <a:off x="452772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2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" name=""/>
                                <p:cNvSpPr/>
                                <p:nvPr/>
                              </p:nvSpPr>
                              <p:spPr>
                                <a:xfrm>
                                  <a:off x="507672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4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8" name=""/>
                                <p:cNvSpPr/>
                                <p:nvPr/>
                              </p:nvSpPr>
                              <p:spPr>
                                <a:xfrm>
                                  <a:off x="561492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6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9" name=""/>
                                <p:cNvSpPr/>
                                <p:nvPr/>
                              </p:nvSpPr>
                              <p:spPr>
                                <a:xfrm>
                                  <a:off x="615456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8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0" name=""/>
                                <p:cNvSpPr/>
                                <p:nvPr/>
                              </p:nvSpPr>
                              <p:spPr>
                                <a:xfrm>
                                  <a:off x="670248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20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1" name=""/>
                                <p:cNvSpPr/>
                                <p:nvPr/>
                              </p:nvSpPr>
                              <p:spPr>
                                <a:xfrm>
                                  <a:off x="724068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22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2" name=""/>
                                <p:cNvSpPr/>
                                <p:nvPr/>
                              </p:nvSpPr>
                              <p:spPr>
                                <a:xfrm>
                                  <a:off x="2184480" y="5667480"/>
                                  <a:ext cx="284040" cy="335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6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" name=""/>
                                <p:cNvSpPr/>
                                <p:nvPr/>
                              </p:nvSpPr>
                              <p:spPr>
                                <a:xfrm>
                                  <a:off x="2097000" y="521964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0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4" name=""/>
                                <p:cNvSpPr/>
                                <p:nvPr/>
                              </p:nvSpPr>
                              <p:spPr>
                                <a:xfrm>
                                  <a:off x="2097000" y="49989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2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>
                                  <a:off x="2097000" y="4770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4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6" name=""/>
                                <p:cNvSpPr/>
                                <p:nvPr/>
                              </p:nvSpPr>
                              <p:spPr>
                                <a:xfrm>
                                  <a:off x="2097000" y="454968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6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7" name=""/>
                                <p:cNvSpPr/>
                                <p:nvPr/>
                              </p:nvSpPr>
                              <p:spPr>
                                <a:xfrm>
                                  <a:off x="2097000" y="432432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8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"/>
                                <p:cNvSpPr/>
                                <p:nvPr/>
                              </p:nvSpPr>
                              <p:spPr>
                                <a:xfrm>
                                  <a:off x="2097000" y="387504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22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>
                                  <a:off x="2540160" y="5761080"/>
                                  <a:ext cx="4878360" cy="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30" name=""/>
                                <p:cNvGrpSpPr/>
                                <p:nvPr/>
                              </p:nvGrpSpPr>
                              <p:grpSpPr>
                                <a:xfrm>
                                  <a:off x="1727280" y="3886200"/>
                                  <a:ext cx="6235560" cy="2438280"/>
                                  <a:chOff x="1727280" y="3886200"/>
                                  <a:chExt cx="6235560" cy="2438280"/>
                                </a:xfrm>
                              </p:grpSpPr>
                              <p:sp>
                                <p:nvSpPr>
                                  <p:cNvPr id="231" name=""/>
                                  <p:cNvSpPr/>
                                  <p:nvPr/>
                                </p:nvSpPr>
                                <p:spPr>
                                  <a:xfrm>
                                    <a:off x="1727280" y="3886200"/>
                                    <a:ext cx="6235560" cy="243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ce9964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2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307980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3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362736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4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416556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5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470520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6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525312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7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579276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8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33096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9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88032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0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254016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1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741852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2" name=""/>
                                  <p:cNvSpPr/>
                                  <p:nvPr/>
                                </p:nvSpPr>
                                <p:spPr>
                                  <a:xfrm>
                                    <a:off x="4800600" y="5943600"/>
                                    <a:ext cx="590400" cy="335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2160" rIns="92160" tIns="46080" bIns="4608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762120"/>
                                        <a:tab algn="l" pos="1523880"/>
                                        <a:tab algn="l" pos="2286000"/>
                                        <a:tab algn="l" pos="3048120"/>
                                        <a:tab algn="l" pos="3809880"/>
                                        <a:tab algn="l" pos="4572000"/>
                                        <a:tab algn="l" pos="5334120"/>
                                        <a:tab algn="l" pos="6095880"/>
                                        <a:tab algn="l" pos="6858000"/>
                                        <a:tab algn="l" pos="7620120"/>
                                        <a:tab algn="l" pos="8381880"/>
                                        <a:tab algn="l" pos="9144000"/>
                                        <a:tab algn="l" pos="9906120"/>
                                        <a:tab algn="l" pos="10667880"/>
                                      </a:tabLst>
                                    </a:pPr>
                                    <a:r>
                                      <a:rPr b="0" lang="en-US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Hora</a:t>
                                    </a:r>
                                    <a:endParaRPr b="0" lang="en-US" sz="16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3" name=""/>
                                  <p:cNvSpPr/>
                                  <p:nvPr/>
                                </p:nvSpPr>
                                <p:spPr>
                                  <a:xfrm rot="16200000">
                                    <a:off x="1571400" y="4559400"/>
                                    <a:ext cx="771480" cy="335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2160" rIns="92160" tIns="46080" bIns="4608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762120"/>
                                        <a:tab algn="l" pos="1523880"/>
                                        <a:tab algn="l" pos="2286000"/>
                                        <a:tab algn="l" pos="3048120"/>
                                        <a:tab algn="l" pos="3809880"/>
                                        <a:tab algn="l" pos="4572000"/>
                                        <a:tab algn="l" pos="5334120"/>
                                        <a:tab algn="l" pos="6095880"/>
                                        <a:tab algn="l" pos="6858000"/>
                                        <a:tab algn="l" pos="7620120"/>
                                        <a:tab algn="l" pos="8381880"/>
                                        <a:tab algn="l" pos="9144000"/>
                                        <a:tab algn="l" pos="9906120"/>
                                        <a:tab algn="l" pos="10667880"/>
                                      </a:tabLst>
                                    </a:pPr>
                                    <a:r>
                                      <a:rPr b="0" lang="en-US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Grados</a:t>
                                    </a:r>
                                    <a:endParaRPr b="0" lang="en-US" sz="16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sp>
          <p:nvSpPr>
            <p:cNvPr id="244" name=""/>
            <p:cNvSpPr/>
            <p:nvPr/>
          </p:nvSpPr>
          <p:spPr>
            <a:xfrm>
              <a:off x="6842160" y="5291280"/>
              <a:ext cx="7452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970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Ejemplo de la temperatura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066680" y="1676520"/>
            <a:ext cx="8471160" cy="4565520"/>
          </a:xfrm>
          <a:prstGeom prst="rect">
            <a:avLst/>
          </a:prstGeom>
          <a:solidFill>
            <a:srgbClr val="ffffcc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48320" y="557676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548320" y="236844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554832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817236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548320" y="2368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172360" y="5576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48320" y="557676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54832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48320" y="5576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54832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4832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389200" y="553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41844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1844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8624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730260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30260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7040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817236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17236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94016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48320" y="557676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8127720" y="557676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70040" y="54244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48320" y="51800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8127720" y="51800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70040" y="50292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48320" y="47750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8127720" y="47750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38280" y="46227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48320" y="437832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8127720" y="437832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38280" y="422748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48320" y="397188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8127720" y="397188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38280" y="382104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48320" y="357660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8127720" y="357660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38280" y="342432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48320" y="317016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8127720" y="317016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38280" y="301932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548320" y="277488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8127720" y="277488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38280" y="262260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48320" y="23684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8127720" y="23684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38280" y="221760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548320" y="557676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48320" y="236844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54832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817236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48320" y="5576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172360" y="2368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667480" y="53784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724360" y="534024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67480" y="5340240"/>
            <a:ext cx="1159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5667480" y="5340240"/>
            <a:ext cx="1159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21360" y="497196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80040" y="493560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21360" y="493560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6021360" y="493560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359400" y="4378320"/>
            <a:ext cx="117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18440" y="434016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359400" y="4340160"/>
            <a:ext cx="1177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6359040" y="4340160"/>
            <a:ext cx="1177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11840" y="3170160"/>
            <a:ext cx="1191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72320" y="313200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711840" y="3132000"/>
            <a:ext cx="1191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6711480" y="3132000"/>
            <a:ext cx="1191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66080" y="2567160"/>
            <a:ext cx="118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24760" y="2529000"/>
            <a:ext cx="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66080" y="2529000"/>
            <a:ext cx="11880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066080" y="2529000"/>
            <a:ext cx="11880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21400" y="29718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478640" y="293544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21400" y="293544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421400" y="293544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759800" y="3774960"/>
            <a:ext cx="118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818480" y="3736800"/>
            <a:ext cx="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59800" y="3736800"/>
            <a:ext cx="11880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7759800" y="3736800"/>
            <a:ext cx="11880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113680" y="477504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172360" y="473724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113680" y="4737240"/>
            <a:ext cx="1173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8113680" y="4737240"/>
            <a:ext cx="1173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724360" y="2971800"/>
            <a:ext cx="1124280" cy="2408400"/>
          </a:xfrm>
          <a:custGeom>
            <a:avLst/>
            <a:gdLst/>
            <a:ahLst/>
            <a:rect l="l" t="t" r="r" b="b"/>
            <a:pathLst>
              <a:path w="708" h="1517">
                <a:moveTo>
                  <a:pt x="0" y="1516"/>
                </a:moveTo>
                <a:lnTo>
                  <a:pt x="9" y="1504"/>
                </a:lnTo>
                <a:lnTo>
                  <a:pt x="18" y="1486"/>
                </a:lnTo>
                <a:lnTo>
                  <a:pt x="28" y="1474"/>
                </a:lnTo>
                <a:lnTo>
                  <a:pt x="46" y="1462"/>
                </a:lnTo>
                <a:lnTo>
                  <a:pt x="56" y="1451"/>
                </a:lnTo>
                <a:lnTo>
                  <a:pt x="65" y="1439"/>
                </a:lnTo>
                <a:lnTo>
                  <a:pt x="74" y="1427"/>
                </a:lnTo>
                <a:lnTo>
                  <a:pt x="83" y="1415"/>
                </a:lnTo>
                <a:lnTo>
                  <a:pt x="101" y="1397"/>
                </a:lnTo>
                <a:lnTo>
                  <a:pt x="111" y="1385"/>
                </a:lnTo>
                <a:lnTo>
                  <a:pt x="121" y="1373"/>
                </a:lnTo>
                <a:lnTo>
                  <a:pt x="130" y="1361"/>
                </a:lnTo>
                <a:lnTo>
                  <a:pt x="139" y="1349"/>
                </a:lnTo>
                <a:lnTo>
                  <a:pt x="148" y="1338"/>
                </a:lnTo>
                <a:lnTo>
                  <a:pt x="166" y="1326"/>
                </a:lnTo>
                <a:lnTo>
                  <a:pt x="176" y="1314"/>
                </a:lnTo>
                <a:lnTo>
                  <a:pt x="186" y="1302"/>
                </a:lnTo>
                <a:lnTo>
                  <a:pt x="195" y="1284"/>
                </a:lnTo>
                <a:lnTo>
                  <a:pt x="204" y="1272"/>
                </a:lnTo>
                <a:lnTo>
                  <a:pt x="223" y="1260"/>
                </a:lnTo>
                <a:lnTo>
                  <a:pt x="232" y="1248"/>
                </a:lnTo>
                <a:lnTo>
                  <a:pt x="241" y="1237"/>
                </a:lnTo>
                <a:lnTo>
                  <a:pt x="251" y="1225"/>
                </a:lnTo>
                <a:lnTo>
                  <a:pt x="260" y="1207"/>
                </a:lnTo>
                <a:lnTo>
                  <a:pt x="278" y="1195"/>
                </a:lnTo>
                <a:lnTo>
                  <a:pt x="288" y="1183"/>
                </a:lnTo>
                <a:lnTo>
                  <a:pt x="297" y="1165"/>
                </a:lnTo>
                <a:lnTo>
                  <a:pt x="306" y="1153"/>
                </a:lnTo>
                <a:lnTo>
                  <a:pt x="316" y="1136"/>
                </a:lnTo>
                <a:lnTo>
                  <a:pt x="325" y="1118"/>
                </a:lnTo>
                <a:lnTo>
                  <a:pt x="343" y="1100"/>
                </a:lnTo>
                <a:lnTo>
                  <a:pt x="353" y="1082"/>
                </a:lnTo>
                <a:lnTo>
                  <a:pt x="362" y="1058"/>
                </a:lnTo>
                <a:lnTo>
                  <a:pt x="371" y="1040"/>
                </a:lnTo>
                <a:lnTo>
                  <a:pt x="381" y="1017"/>
                </a:lnTo>
                <a:lnTo>
                  <a:pt x="400" y="993"/>
                </a:lnTo>
                <a:lnTo>
                  <a:pt x="408" y="969"/>
                </a:lnTo>
                <a:lnTo>
                  <a:pt x="418" y="939"/>
                </a:lnTo>
                <a:lnTo>
                  <a:pt x="427" y="916"/>
                </a:lnTo>
                <a:lnTo>
                  <a:pt x="436" y="886"/>
                </a:lnTo>
                <a:lnTo>
                  <a:pt x="455" y="850"/>
                </a:lnTo>
                <a:lnTo>
                  <a:pt x="465" y="821"/>
                </a:lnTo>
                <a:lnTo>
                  <a:pt x="473" y="785"/>
                </a:lnTo>
                <a:lnTo>
                  <a:pt x="483" y="749"/>
                </a:lnTo>
                <a:lnTo>
                  <a:pt x="492" y="708"/>
                </a:lnTo>
                <a:lnTo>
                  <a:pt x="502" y="672"/>
                </a:lnTo>
                <a:lnTo>
                  <a:pt x="520" y="636"/>
                </a:lnTo>
                <a:lnTo>
                  <a:pt x="530" y="595"/>
                </a:lnTo>
                <a:lnTo>
                  <a:pt x="538" y="553"/>
                </a:lnTo>
                <a:lnTo>
                  <a:pt x="548" y="512"/>
                </a:lnTo>
                <a:lnTo>
                  <a:pt x="557" y="476"/>
                </a:lnTo>
                <a:lnTo>
                  <a:pt x="576" y="434"/>
                </a:lnTo>
                <a:lnTo>
                  <a:pt x="585" y="393"/>
                </a:lnTo>
                <a:lnTo>
                  <a:pt x="595" y="351"/>
                </a:lnTo>
                <a:lnTo>
                  <a:pt x="603" y="309"/>
                </a:lnTo>
                <a:lnTo>
                  <a:pt x="613" y="274"/>
                </a:lnTo>
                <a:lnTo>
                  <a:pt x="632" y="232"/>
                </a:lnTo>
                <a:lnTo>
                  <a:pt x="641" y="197"/>
                </a:lnTo>
                <a:lnTo>
                  <a:pt x="650" y="161"/>
                </a:lnTo>
                <a:lnTo>
                  <a:pt x="660" y="125"/>
                </a:lnTo>
                <a:lnTo>
                  <a:pt x="669" y="90"/>
                </a:lnTo>
                <a:lnTo>
                  <a:pt x="678" y="60"/>
                </a:lnTo>
                <a:lnTo>
                  <a:pt x="697" y="30"/>
                </a:lnTo>
                <a:lnTo>
                  <a:pt x="707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46840" y="2567160"/>
            <a:ext cx="1120680" cy="1614240"/>
          </a:xfrm>
          <a:custGeom>
            <a:avLst/>
            <a:gdLst/>
            <a:ahLst/>
            <a:rect l="l" t="t" r="r" b="b"/>
            <a:pathLst>
              <a:path w="706" h="1017">
                <a:moveTo>
                  <a:pt x="0" y="255"/>
                </a:moveTo>
                <a:lnTo>
                  <a:pt x="8" y="226"/>
                </a:lnTo>
                <a:lnTo>
                  <a:pt x="18" y="196"/>
                </a:lnTo>
                <a:lnTo>
                  <a:pt x="27" y="172"/>
                </a:lnTo>
                <a:lnTo>
                  <a:pt x="45" y="148"/>
                </a:lnTo>
                <a:lnTo>
                  <a:pt x="55" y="131"/>
                </a:lnTo>
                <a:lnTo>
                  <a:pt x="64" y="107"/>
                </a:lnTo>
                <a:lnTo>
                  <a:pt x="73" y="89"/>
                </a:lnTo>
                <a:lnTo>
                  <a:pt x="83" y="71"/>
                </a:lnTo>
                <a:lnTo>
                  <a:pt x="92" y="59"/>
                </a:lnTo>
                <a:lnTo>
                  <a:pt x="110" y="42"/>
                </a:lnTo>
                <a:lnTo>
                  <a:pt x="120" y="30"/>
                </a:lnTo>
                <a:lnTo>
                  <a:pt x="129" y="24"/>
                </a:lnTo>
                <a:lnTo>
                  <a:pt x="138" y="12"/>
                </a:lnTo>
                <a:lnTo>
                  <a:pt x="148" y="6"/>
                </a:lnTo>
                <a:lnTo>
                  <a:pt x="166" y="6"/>
                </a:lnTo>
                <a:lnTo>
                  <a:pt x="175" y="0"/>
                </a:lnTo>
                <a:lnTo>
                  <a:pt x="185" y="0"/>
                </a:lnTo>
                <a:lnTo>
                  <a:pt x="194" y="0"/>
                </a:lnTo>
                <a:lnTo>
                  <a:pt x="203" y="6"/>
                </a:lnTo>
                <a:lnTo>
                  <a:pt x="222" y="12"/>
                </a:lnTo>
                <a:lnTo>
                  <a:pt x="231" y="18"/>
                </a:lnTo>
                <a:lnTo>
                  <a:pt x="240" y="24"/>
                </a:lnTo>
                <a:lnTo>
                  <a:pt x="250" y="36"/>
                </a:lnTo>
                <a:lnTo>
                  <a:pt x="259" y="47"/>
                </a:lnTo>
                <a:lnTo>
                  <a:pt x="268" y="59"/>
                </a:lnTo>
                <a:lnTo>
                  <a:pt x="286" y="71"/>
                </a:lnTo>
                <a:lnTo>
                  <a:pt x="296" y="83"/>
                </a:lnTo>
                <a:lnTo>
                  <a:pt x="305" y="101"/>
                </a:lnTo>
                <a:lnTo>
                  <a:pt x="315" y="119"/>
                </a:lnTo>
                <a:lnTo>
                  <a:pt x="324" y="137"/>
                </a:lnTo>
                <a:lnTo>
                  <a:pt x="343" y="154"/>
                </a:lnTo>
                <a:lnTo>
                  <a:pt x="351" y="172"/>
                </a:lnTo>
                <a:lnTo>
                  <a:pt x="361" y="190"/>
                </a:lnTo>
                <a:lnTo>
                  <a:pt x="370" y="214"/>
                </a:lnTo>
                <a:lnTo>
                  <a:pt x="380" y="232"/>
                </a:lnTo>
                <a:lnTo>
                  <a:pt x="398" y="255"/>
                </a:lnTo>
                <a:lnTo>
                  <a:pt x="408" y="273"/>
                </a:lnTo>
                <a:lnTo>
                  <a:pt x="416" y="297"/>
                </a:lnTo>
                <a:lnTo>
                  <a:pt x="426" y="321"/>
                </a:lnTo>
                <a:lnTo>
                  <a:pt x="435" y="345"/>
                </a:lnTo>
                <a:lnTo>
                  <a:pt x="445" y="368"/>
                </a:lnTo>
                <a:lnTo>
                  <a:pt x="463" y="392"/>
                </a:lnTo>
                <a:lnTo>
                  <a:pt x="473" y="416"/>
                </a:lnTo>
                <a:lnTo>
                  <a:pt x="481" y="440"/>
                </a:lnTo>
                <a:lnTo>
                  <a:pt x="491" y="463"/>
                </a:lnTo>
                <a:lnTo>
                  <a:pt x="500" y="487"/>
                </a:lnTo>
                <a:lnTo>
                  <a:pt x="519" y="511"/>
                </a:lnTo>
                <a:lnTo>
                  <a:pt x="528" y="541"/>
                </a:lnTo>
                <a:lnTo>
                  <a:pt x="538" y="564"/>
                </a:lnTo>
                <a:lnTo>
                  <a:pt x="546" y="594"/>
                </a:lnTo>
                <a:lnTo>
                  <a:pt x="556" y="618"/>
                </a:lnTo>
                <a:lnTo>
                  <a:pt x="575" y="648"/>
                </a:lnTo>
                <a:lnTo>
                  <a:pt x="584" y="671"/>
                </a:lnTo>
                <a:lnTo>
                  <a:pt x="593" y="701"/>
                </a:lnTo>
                <a:lnTo>
                  <a:pt x="603" y="731"/>
                </a:lnTo>
                <a:lnTo>
                  <a:pt x="611" y="761"/>
                </a:lnTo>
                <a:lnTo>
                  <a:pt x="621" y="790"/>
                </a:lnTo>
                <a:lnTo>
                  <a:pt x="640" y="820"/>
                </a:lnTo>
                <a:lnTo>
                  <a:pt x="649" y="856"/>
                </a:lnTo>
                <a:lnTo>
                  <a:pt x="658" y="885"/>
                </a:lnTo>
                <a:lnTo>
                  <a:pt x="668" y="921"/>
                </a:lnTo>
                <a:lnTo>
                  <a:pt x="676" y="951"/>
                </a:lnTo>
                <a:lnTo>
                  <a:pt x="695" y="986"/>
                </a:lnTo>
                <a:lnTo>
                  <a:pt x="705" y="1016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966080" y="4179960"/>
            <a:ext cx="208080" cy="596880"/>
          </a:xfrm>
          <a:custGeom>
            <a:avLst/>
            <a:gdLst/>
            <a:ahLst/>
            <a:rect l="l" t="t" r="r" b="b"/>
            <a:pathLst>
              <a:path w="131" h="376">
                <a:moveTo>
                  <a:pt x="0" y="0"/>
                </a:moveTo>
                <a:lnTo>
                  <a:pt x="9" y="36"/>
                </a:lnTo>
                <a:lnTo>
                  <a:pt x="18" y="66"/>
                </a:lnTo>
                <a:lnTo>
                  <a:pt x="28" y="101"/>
                </a:lnTo>
                <a:lnTo>
                  <a:pt x="46" y="131"/>
                </a:lnTo>
                <a:lnTo>
                  <a:pt x="55" y="167"/>
                </a:lnTo>
                <a:lnTo>
                  <a:pt x="65" y="196"/>
                </a:lnTo>
                <a:lnTo>
                  <a:pt x="74" y="226"/>
                </a:lnTo>
                <a:lnTo>
                  <a:pt x="83" y="256"/>
                </a:lnTo>
                <a:lnTo>
                  <a:pt x="93" y="285"/>
                </a:lnTo>
                <a:lnTo>
                  <a:pt x="111" y="315"/>
                </a:lnTo>
                <a:lnTo>
                  <a:pt x="120" y="345"/>
                </a:lnTo>
                <a:lnTo>
                  <a:pt x="130" y="375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685560" y="570240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16200000">
            <a:off x="4491360" y="3773520"/>
            <a:ext cx="70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do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26040" y="1828800"/>
            <a:ext cx="1844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pline cúbic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03240" y="557676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03240" y="236844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80324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42908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803240" y="2368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429080" y="5576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03240" y="557676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180324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03240" y="55767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180324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80324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45920" y="553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67480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7480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4116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55752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5752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32532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442908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2908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9544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03240" y="55767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4383000" y="55767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26760" y="54244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03240" y="5180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383000" y="5180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26760" y="50292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03240" y="4775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383000" y="4775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95000" y="46227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03240" y="43783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4383000" y="43783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95000" y="422748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03240" y="397188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4383000" y="397188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395000" y="382104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03240" y="357660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383000" y="357660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95000" y="342432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03240" y="31701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4383000" y="31701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395000" y="301932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03240" y="277488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4383000" y="277488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95000" y="262260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803240" y="23684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4383000" y="23684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95000" y="221760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803240" y="557676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803240" y="236844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180324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42908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03240" y="55767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29080" y="2368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22400" y="537840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81080" y="534024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922400" y="5340240"/>
            <a:ext cx="1173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922400" y="5340240"/>
            <a:ext cx="1173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74840" y="4971960"/>
            <a:ext cx="1191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35320" y="493560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74840" y="4935600"/>
            <a:ext cx="1191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2274480" y="4935600"/>
            <a:ext cx="1191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16120" y="437832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674800" y="434016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616120" y="4340160"/>
            <a:ext cx="1159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2616120" y="4340160"/>
            <a:ext cx="1159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968560" y="3170160"/>
            <a:ext cx="1191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029040" y="313200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68560" y="3132000"/>
            <a:ext cx="1191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2968200" y="3132000"/>
            <a:ext cx="1191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22800" y="2567160"/>
            <a:ext cx="118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81480" y="2529000"/>
            <a:ext cx="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22800" y="2529000"/>
            <a:ext cx="11880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322800" y="2529000"/>
            <a:ext cx="11880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76680" y="297180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35360" y="293544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676680" y="2935440"/>
            <a:ext cx="1173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3676680" y="2935440"/>
            <a:ext cx="1173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016520" y="377496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073400" y="3736800"/>
            <a:ext cx="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016520" y="3736800"/>
            <a:ext cx="11592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4016520" y="3736800"/>
            <a:ext cx="11592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370400" y="477504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429080" y="473724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370400" y="473724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370400" y="473724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81080" y="2971800"/>
            <a:ext cx="1121040" cy="2408400"/>
          </a:xfrm>
          <a:custGeom>
            <a:avLst/>
            <a:gdLst/>
            <a:ahLst/>
            <a:rect l="l" t="t" r="r" b="b"/>
            <a:pathLst>
              <a:path w="706" h="1517">
                <a:moveTo>
                  <a:pt x="0" y="1516"/>
                </a:moveTo>
                <a:lnTo>
                  <a:pt x="9" y="1462"/>
                </a:lnTo>
                <a:lnTo>
                  <a:pt x="18" y="1421"/>
                </a:lnTo>
                <a:lnTo>
                  <a:pt x="28" y="1385"/>
                </a:lnTo>
                <a:lnTo>
                  <a:pt x="46" y="1355"/>
                </a:lnTo>
                <a:lnTo>
                  <a:pt x="55" y="1332"/>
                </a:lnTo>
                <a:lnTo>
                  <a:pt x="64" y="1314"/>
                </a:lnTo>
                <a:lnTo>
                  <a:pt x="74" y="1296"/>
                </a:lnTo>
                <a:lnTo>
                  <a:pt x="83" y="1284"/>
                </a:lnTo>
                <a:lnTo>
                  <a:pt x="101" y="1278"/>
                </a:lnTo>
                <a:lnTo>
                  <a:pt x="111" y="1272"/>
                </a:lnTo>
                <a:lnTo>
                  <a:pt x="120" y="1266"/>
                </a:lnTo>
                <a:lnTo>
                  <a:pt x="129" y="1266"/>
                </a:lnTo>
                <a:lnTo>
                  <a:pt x="139" y="1266"/>
                </a:lnTo>
                <a:lnTo>
                  <a:pt x="148" y="1266"/>
                </a:lnTo>
                <a:lnTo>
                  <a:pt x="166" y="1266"/>
                </a:lnTo>
                <a:lnTo>
                  <a:pt x="176" y="1266"/>
                </a:lnTo>
                <a:lnTo>
                  <a:pt x="185" y="1266"/>
                </a:lnTo>
                <a:lnTo>
                  <a:pt x="194" y="1266"/>
                </a:lnTo>
                <a:lnTo>
                  <a:pt x="204" y="1266"/>
                </a:lnTo>
                <a:lnTo>
                  <a:pt x="223" y="1260"/>
                </a:lnTo>
                <a:lnTo>
                  <a:pt x="231" y="1260"/>
                </a:lnTo>
                <a:lnTo>
                  <a:pt x="241" y="1254"/>
                </a:lnTo>
                <a:lnTo>
                  <a:pt x="250" y="1248"/>
                </a:lnTo>
                <a:lnTo>
                  <a:pt x="259" y="1237"/>
                </a:lnTo>
                <a:lnTo>
                  <a:pt x="278" y="1231"/>
                </a:lnTo>
                <a:lnTo>
                  <a:pt x="288" y="1219"/>
                </a:lnTo>
                <a:lnTo>
                  <a:pt x="296" y="1207"/>
                </a:lnTo>
                <a:lnTo>
                  <a:pt x="306" y="1189"/>
                </a:lnTo>
                <a:lnTo>
                  <a:pt x="315" y="1177"/>
                </a:lnTo>
                <a:lnTo>
                  <a:pt x="324" y="1159"/>
                </a:lnTo>
                <a:lnTo>
                  <a:pt x="343" y="1136"/>
                </a:lnTo>
                <a:lnTo>
                  <a:pt x="353" y="1112"/>
                </a:lnTo>
                <a:lnTo>
                  <a:pt x="361" y="1094"/>
                </a:lnTo>
                <a:lnTo>
                  <a:pt x="371" y="1064"/>
                </a:lnTo>
                <a:lnTo>
                  <a:pt x="380" y="1040"/>
                </a:lnTo>
                <a:lnTo>
                  <a:pt x="399" y="1011"/>
                </a:lnTo>
                <a:lnTo>
                  <a:pt x="408" y="981"/>
                </a:lnTo>
                <a:lnTo>
                  <a:pt x="418" y="951"/>
                </a:lnTo>
                <a:lnTo>
                  <a:pt x="426" y="916"/>
                </a:lnTo>
                <a:lnTo>
                  <a:pt x="436" y="886"/>
                </a:lnTo>
                <a:lnTo>
                  <a:pt x="454" y="850"/>
                </a:lnTo>
                <a:lnTo>
                  <a:pt x="464" y="815"/>
                </a:lnTo>
                <a:lnTo>
                  <a:pt x="473" y="773"/>
                </a:lnTo>
                <a:lnTo>
                  <a:pt x="482" y="737"/>
                </a:lnTo>
                <a:lnTo>
                  <a:pt x="491" y="702"/>
                </a:lnTo>
                <a:lnTo>
                  <a:pt x="501" y="660"/>
                </a:lnTo>
                <a:lnTo>
                  <a:pt x="519" y="619"/>
                </a:lnTo>
                <a:lnTo>
                  <a:pt x="529" y="583"/>
                </a:lnTo>
                <a:lnTo>
                  <a:pt x="538" y="541"/>
                </a:lnTo>
                <a:lnTo>
                  <a:pt x="547" y="500"/>
                </a:lnTo>
                <a:lnTo>
                  <a:pt x="556" y="464"/>
                </a:lnTo>
                <a:lnTo>
                  <a:pt x="575" y="422"/>
                </a:lnTo>
                <a:lnTo>
                  <a:pt x="584" y="381"/>
                </a:lnTo>
                <a:lnTo>
                  <a:pt x="594" y="345"/>
                </a:lnTo>
                <a:lnTo>
                  <a:pt x="603" y="304"/>
                </a:lnTo>
                <a:lnTo>
                  <a:pt x="612" y="268"/>
                </a:lnTo>
                <a:lnTo>
                  <a:pt x="631" y="232"/>
                </a:lnTo>
                <a:lnTo>
                  <a:pt x="640" y="197"/>
                </a:lnTo>
                <a:lnTo>
                  <a:pt x="649" y="161"/>
                </a:lnTo>
                <a:lnTo>
                  <a:pt x="659" y="125"/>
                </a:lnTo>
                <a:lnTo>
                  <a:pt x="668" y="90"/>
                </a:lnTo>
                <a:lnTo>
                  <a:pt x="677" y="60"/>
                </a:lnTo>
                <a:lnTo>
                  <a:pt x="696" y="30"/>
                </a:lnTo>
                <a:lnTo>
                  <a:pt x="705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00320" y="2567160"/>
            <a:ext cx="1123920" cy="1530000"/>
          </a:xfrm>
          <a:custGeom>
            <a:avLst/>
            <a:gdLst/>
            <a:ahLst/>
            <a:rect l="l" t="t" r="r" b="b"/>
            <a:pathLst>
              <a:path w="708" h="964">
                <a:moveTo>
                  <a:pt x="0" y="255"/>
                </a:moveTo>
                <a:lnTo>
                  <a:pt x="9" y="226"/>
                </a:lnTo>
                <a:lnTo>
                  <a:pt x="19" y="202"/>
                </a:lnTo>
                <a:lnTo>
                  <a:pt x="28" y="172"/>
                </a:lnTo>
                <a:lnTo>
                  <a:pt x="46" y="148"/>
                </a:lnTo>
                <a:lnTo>
                  <a:pt x="56" y="131"/>
                </a:lnTo>
                <a:lnTo>
                  <a:pt x="65" y="107"/>
                </a:lnTo>
                <a:lnTo>
                  <a:pt x="74" y="89"/>
                </a:lnTo>
                <a:lnTo>
                  <a:pt x="84" y="71"/>
                </a:lnTo>
                <a:lnTo>
                  <a:pt x="93" y="59"/>
                </a:lnTo>
                <a:lnTo>
                  <a:pt x="111" y="42"/>
                </a:lnTo>
                <a:lnTo>
                  <a:pt x="121" y="36"/>
                </a:lnTo>
                <a:lnTo>
                  <a:pt x="130" y="24"/>
                </a:lnTo>
                <a:lnTo>
                  <a:pt x="139" y="18"/>
                </a:lnTo>
                <a:lnTo>
                  <a:pt x="149" y="6"/>
                </a:lnTo>
                <a:lnTo>
                  <a:pt x="168" y="6"/>
                </a:lnTo>
                <a:lnTo>
                  <a:pt x="176" y="0"/>
                </a:lnTo>
                <a:lnTo>
                  <a:pt x="186" y="0"/>
                </a:lnTo>
                <a:lnTo>
                  <a:pt x="195" y="0"/>
                </a:lnTo>
                <a:lnTo>
                  <a:pt x="204" y="6"/>
                </a:lnTo>
                <a:lnTo>
                  <a:pt x="223" y="6"/>
                </a:lnTo>
                <a:lnTo>
                  <a:pt x="233" y="12"/>
                </a:lnTo>
                <a:lnTo>
                  <a:pt x="241" y="18"/>
                </a:lnTo>
                <a:lnTo>
                  <a:pt x="251" y="30"/>
                </a:lnTo>
                <a:lnTo>
                  <a:pt x="260" y="42"/>
                </a:lnTo>
                <a:lnTo>
                  <a:pt x="270" y="53"/>
                </a:lnTo>
                <a:lnTo>
                  <a:pt x="288" y="65"/>
                </a:lnTo>
                <a:lnTo>
                  <a:pt x="298" y="77"/>
                </a:lnTo>
                <a:lnTo>
                  <a:pt x="306" y="95"/>
                </a:lnTo>
                <a:lnTo>
                  <a:pt x="316" y="113"/>
                </a:lnTo>
                <a:lnTo>
                  <a:pt x="325" y="131"/>
                </a:lnTo>
                <a:lnTo>
                  <a:pt x="344" y="148"/>
                </a:lnTo>
                <a:lnTo>
                  <a:pt x="353" y="166"/>
                </a:lnTo>
                <a:lnTo>
                  <a:pt x="363" y="190"/>
                </a:lnTo>
                <a:lnTo>
                  <a:pt x="371" y="208"/>
                </a:lnTo>
                <a:lnTo>
                  <a:pt x="381" y="232"/>
                </a:lnTo>
                <a:lnTo>
                  <a:pt x="400" y="255"/>
                </a:lnTo>
                <a:lnTo>
                  <a:pt x="409" y="279"/>
                </a:lnTo>
                <a:lnTo>
                  <a:pt x="418" y="303"/>
                </a:lnTo>
                <a:lnTo>
                  <a:pt x="428" y="327"/>
                </a:lnTo>
                <a:lnTo>
                  <a:pt x="436" y="351"/>
                </a:lnTo>
                <a:lnTo>
                  <a:pt x="446" y="374"/>
                </a:lnTo>
                <a:lnTo>
                  <a:pt x="465" y="404"/>
                </a:lnTo>
                <a:lnTo>
                  <a:pt x="474" y="428"/>
                </a:lnTo>
                <a:lnTo>
                  <a:pt x="483" y="452"/>
                </a:lnTo>
                <a:lnTo>
                  <a:pt x="493" y="481"/>
                </a:lnTo>
                <a:lnTo>
                  <a:pt x="502" y="505"/>
                </a:lnTo>
                <a:lnTo>
                  <a:pt x="520" y="529"/>
                </a:lnTo>
                <a:lnTo>
                  <a:pt x="530" y="559"/>
                </a:lnTo>
                <a:lnTo>
                  <a:pt x="540" y="582"/>
                </a:lnTo>
                <a:lnTo>
                  <a:pt x="548" y="606"/>
                </a:lnTo>
                <a:lnTo>
                  <a:pt x="558" y="636"/>
                </a:lnTo>
                <a:lnTo>
                  <a:pt x="576" y="660"/>
                </a:lnTo>
                <a:lnTo>
                  <a:pt x="585" y="683"/>
                </a:lnTo>
                <a:lnTo>
                  <a:pt x="595" y="707"/>
                </a:lnTo>
                <a:lnTo>
                  <a:pt x="605" y="737"/>
                </a:lnTo>
                <a:lnTo>
                  <a:pt x="613" y="761"/>
                </a:lnTo>
                <a:lnTo>
                  <a:pt x="623" y="784"/>
                </a:lnTo>
                <a:lnTo>
                  <a:pt x="641" y="808"/>
                </a:lnTo>
                <a:lnTo>
                  <a:pt x="650" y="832"/>
                </a:lnTo>
                <a:lnTo>
                  <a:pt x="660" y="862"/>
                </a:lnTo>
                <a:lnTo>
                  <a:pt x="670" y="885"/>
                </a:lnTo>
                <a:lnTo>
                  <a:pt x="678" y="909"/>
                </a:lnTo>
                <a:lnTo>
                  <a:pt x="697" y="939"/>
                </a:lnTo>
                <a:lnTo>
                  <a:pt x="707" y="96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22800" y="4095720"/>
            <a:ext cx="208080" cy="681120"/>
          </a:xfrm>
          <a:custGeom>
            <a:avLst/>
            <a:gdLst/>
            <a:ahLst/>
            <a:rect l="l" t="t" r="r" b="b"/>
            <a:pathLst>
              <a:path w="131" h="429">
                <a:moveTo>
                  <a:pt x="0" y="0"/>
                </a:moveTo>
                <a:lnTo>
                  <a:pt x="8" y="29"/>
                </a:lnTo>
                <a:lnTo>
                  <a:pt x="18" y="53"/>
                </a:lnTo>
                <a:lnTo>
                  <a:pt x="28" y="83"/>
                </a:lnTo>
                <a:lnTo>
                  <a:pt x="46" y="113"/>
                </a:lnTo>
                <a:lnTo>
                  <a:pt x="55" y="148"/>
                </a:lnTo>
                <a:lnTo>
                  <a:pt x="65" y="178"/>
                </a:lnTo>
                <a:lnTo>
                  <a:pt x="73" y="214"/>
                </a:lnTo>
                <a:lnTo>
                  <a:pt x="83" y="249"/>
                </a:lnTo>
                <a:lnTo>
                  <a:pt x="93" y="291"/>
                </a:lnTo>
                <a:lnTo>
                  <a:pt x="111" y="332"/>
                </a:lnTo>
                <a:lnTo>
                  <a:pt x="120" y="380"/>
                </a:lnTo>
                <a:lnTo>
                  <a:pt x="130" y="428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942280" y="570240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16200000">
            <a:off x="746640" y="3772080"/>
            <a:ext cx="70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do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898640" y="1828800"/>
            <a:ext cx="2394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nomio interpolado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Condiciones sobre la derivada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73160" y="2438280"/>
            <a:ext cx="8089920" cy="114300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165320" y="1752480"/>
          <a:ext cx="8080200" cy="198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1752480"/>
                    <a:ext cx="8080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>
            <a:off x="2514600" y="3809880"/>
            <a:ext cx="4540320" cy="76212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2743200" y="3886200"/>
          <a:ext cx="417672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886200"/>
                    <a:ext cx="417672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"/>
          <p:cNvSpPr/>
          <p:nvPr/>
        </p:nvSpPr>
        <p:spPr>
          <a:xfrm>
            <a:off x="1828800" y="4876920"/>
            <a:ext cx="6191280" cy="83808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1981080" y="4952880"/>
          <a:ext cx="604548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952880"/>
                    <a:ext cx="6045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6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7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Matriz del sistema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90720" y="2209680"/>
          <a:ext cx="838188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83818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97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Términos independient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981080" y="2057400"/>
          <a:ext cx="65725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65725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609480" y="609480"/>
            <a:ext cx="897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Splines Cúbico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066680" y="23623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¿Cómo calculamos Splines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95280" y="3962520"/>
            <a:ext cx="8077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úbicos con Matlab?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segmentaria con MATLAB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Interpolación segmentaria cúb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s = spline(x,y) % Devuelve el Spline, no los coeficient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[x,s] = unmkpp(ps) % Devuelve los coeficient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s = mkpp(x,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yy = spline(x,y,xx) = ppval(ps,xx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segmentaria line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yy = interp1(x,y,xx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1066680" y="685800"/>
            <a:ext cx="8457840" cy="5638320"/>
            <a:chOff x="1066680" y="685800"/>
            <a:chExt cx="8457840" cy="5638320"/>
          </a:xfrm>
        </p:grpSpPr>
        <p:sp>
          <p:nvSpPr>
            <p:cNvPr id="896" name=""/>
            <p:cNvSpPr/>
            <p:nvPr/>
          </p:nvSpPr>
          <p:spPr>
            <a:xfrm>
              <a:off x="1066680" y="685800"/>
              <a:ext cx="8457840" cy="5638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161800" y="56163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61800" y="37173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216180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483840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61800" y="3717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38400" y="5616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61800" y="56163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216180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61800" y="5616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227988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988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59920" y="5626440"/>
              <a:ext cx="355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349884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9884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47280" y="56264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71852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71852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569480" y="56264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61800" y="54514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802760" y="5451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891440" y="521532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61800" y="45766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4802760" y="45766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703160" y="4339080"/>
              <a:ext cx="451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61800" y="37173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4802760" y="3717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91440" y="348156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61800" y="56163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61800" y="37173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16180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83840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61800" y="5616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38400" y="3717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11480" y="537552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79880" y="5314680"/>
              <a:ext cx="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11480" y="5314680"/>
              <a:ext cx="1357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211120" y="5314680"/>
              <a:ext cx="1357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22040" y="5210280"/>
              <a:ext cx="13428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889000" y="5149440"/>
              <a:ext cx="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22040" y="5149440"/>
              <a:ext cx="13428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2821680" y="5149440"/>
              <a:ext cx="13428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31160" y="371736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98840" y="365832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431160" y="36583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3430800" y="36583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40280" y="5210280"/>
              <a:ext cx="1375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109400" y="5149440"/>
              <a:ext cx="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40280" y="5149440"/>
              <a:ext cx="1375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040280" y="5149440"/>
              <a:ext cx="1375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51200" y="537552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718520" y="5314680"/>
              <a:ext cx="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651200" y="5314680"/>
              <a:ext cx="1357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4650840" y="5314680"/>
              <a:ext cx="1357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161800" y="3717360"/>
              <a:ext cx="1558800" cy="1674720"/>
            </a:xfrm>
            <a:custGeom>
              <a:avLst/>
              <a:gdLst/>
              <a:ahLst/>
              <a:rect l="l" t="t" r="r" b="b"/>
              <a:pathLst>
                <a:path w="975" h="994">
                  <a:moveTo>
                    <a:pt x="0" y="993"/>
                  </a:moveTo>
                  <a:lnTo>
                    <a:pt x="9" y="993"/>
                  </a:lnTo>
                  <a:lnTo>
                    <a:pt x="31" y="993"/>
                  </a:lnTo>
                  <a:lnTo>
                    <a:pt x="42" y="984"/>
                  </a:lnTo>
                  <a:lnTo>
                    <a:pt x="62" y="984"/>
                  </a:lnTo>
                  <a:lnTo>
                    <a:pt x="73" y="984"/>
                  </a:lnTo>
                  <a:lnTo>
                    <a:pt x="95" y="984"/>
                  </a:lnTo>
                  <a:lnTo>
                    <a:pt x="106" y="984"/>
                  </a:lnTo>
                  <a:lnTo>
                    <a:pt x="115" y="984"/>
                  </a:lnTo>
                  <a:lnTo>
                    <a:pt x="137" y="975"/>
                  </a:lnTo>
                  <a:lnTo>
                    <a:pt x="148" y="975"/>
                  </a:lnTo>
                  <a:lnTo>
                    <a:pt x="169" y="975"/>
                  </a:lnTo>
                  <a:lnTo>
                    <a:pt x="179" y="975"/>
                  </a:lnTo>
                  <a:lnTo>
                    <a:pt x="201" y="966"/>
                  </a:lnTo>
                  <a:lnTo>
                    <a:pt x="211" y="966"/>
                  </a:lnTo>
                  <a:lnTo>
                    <a:pt x="232" y="966"/>
                  </a:lnTo>
                  <a:lnTo>
                    <a:pt x="243" y="957"/>
                  </a:lnTo>
                  <a:lnTo>
                    <a:pt x="253" y="957"/>
                  </a:lnTo>
                  <a:lnTo>
                    <a:pt x="275" y="957"/>
                  </a:lnTo>
                  <a:lnTo>
                    <a:pt x="286" y="948"/>
                  </a:lnTo>
                  <a:lnTo>
                    <a:pt x="306" y="948"/>
                  </a:lnTo>
                  <a:lnTo>
                    <a:pt x="317" y="940"/>
                  </a:lnTo>
                  <a:lnTo>
                    <a:pt x="339" y="940"/>
                  </a:lnTo>
                  <a:lnTo>
                    <a:pt x="348" y="931"/>
                  </a:lnTo>
                  <a:lnTo>
                    <a:pt x="359" y="931"/>
                  </a:lnTo>
                  <a:lnTo>
                    <a:pt x="381" y="922"/>
                  </a:lnTo>
                  <a:lnTo>
                    <a:pt x="392" y="913"/>
                  </a:lnTo>
                  <a:lnTo>
                    <a:pt x="412" y="913"/>
                  </a:lnTo>
                  <a:lnTo>
                    <a:pt x="423" y="904"/>
                  </a:lnTo>
                  <a:lnTo>
                    <a:pt x="444" y="895"/>
                  </a:lnTo>
                  <a:lnTo>
                    <a:pt x="455" y="886"/>
                  </a:lnTo>
                  <a:lnTo>
                    <a:pt x="476" y="877"/>
                  </a:lnTo>
                  <a:lnTo>
                    <a:pt x="487" y="859"/>
                  </a:lnTo>
                  <a:lnTo>
                    <a:pt x="497" y="850"/>
                  </a:lnTo>
                  <a:lnTo>
                    <a:pt x="518" y="832"/>
                  </a:lnTo>
                  <a:lnTo>
                    <a:pt x="529" y="823"/>
                  </a:lnTo>
                  <a:lnTo>
                    <a:pt x="550" y="805"/>
                  </a:lnTo>
                  <a:lnTo>
                    <a:pt x="561" y="787"/>
                  </a:lnTo>
                  <a:lnTo>
                    <a:pt x="582" y="761"/>
                  </a:lnTo>
                  <a:lnTo>
                    <a:pt x="592" y="734"/>
                  </a:lnTo>
                  <a:lnTo>
                    <a:pt x="603" y="707"/>
                  </a:lnTo>
                  <a:lnTo>
                    <a:pt x="625" y="680"/>
                  </a:lnTo>
                  <a:lnTo>
                    <a:pt x="635" y="644"/>
                  </a:lnTo>
                  <a:lnTo>
                    <a:pt x="656" y="609"/>
                  </a:lnTo>
                  <a:lnTo>
                    <a:pt x="667" y="564"/>
                  </a:lnTo>
                  <a:lnTo>
                    <a:pt x="687" y="510"/>
                  </a:lnTo>
                  <a:lnTo>
                    <a:pt x="698" y="457"/>
                  </a:lnTo>
                  <a:lnTo>
                    <a:pt x="720" y="403"/>
                  </a:lnTo>
                  <a:lnTo>
                    <a:pt x="731" y="340"/>
                  </a:lnTo>
                  <a:lnTo>
                    <a:pt x="741" y="269"/>
                  </a:lnTo>
                  <a:lnTo>
                    <a:pt x="762" y="206"/>
                  </a:lnTo>
                  <a:lnTo>
                    <a:pt x="773" y="144"/>
                  </a:lnTo>
                  <a:lnTo>
                    <a:pt x="794" y="81"/>
                  </a:lnTo>
                  <a:lnTo>
                    <a:pt x="804" y="36"/>
                  </a:lnTo>
                  <a:lnTo>
                    <a:pt x="826" y="9"/>
                  </a:lnTo>
                  <a:lnTo>
                    <a:pt x="836" y="0"/>
                  </a:lnTo>
                  <a:lnTo>
                    <a:pt x="847" y="9"/>
                  </a:lnTo>
                  <a:lnTo>
                    <a:pt x="868" y="36"/>
                  </a:lnTo>
                  <a:lnTo>
                    <a:pt x="878" y="81"/>
                  </a:lnTo>
                  <a:lnTo>
                    <a:pt x="900" y="144"/>
                  </a:lnTo>
                  <a:lnTo>
                    <a:pt x="911" y="206"/>
                  </a:lnTo>
                  <a:lnTo>
                    <a:pt x="931" y="269"/>
                  </a:lnTo>
                  <a:lnTo>
                    <a:pt x="942" y="340"/>
                  </a:lnTo>
                  <a:lnTo>
                    <a:pt x="953" y="403"/>
                  </a:lnTo>
                  <a:lnTo>
                    <a:pt x="974" y="457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19160" y="4487400"/>
              <a:ext cx="1120680" cy="904680"/>
            </a:xfrm>
            <a:custGeom>
              <a:avLst/>
              <a:gdLst/>
              <a:ahLst/>
              <a:rect l="l" t="t" r="r" b="b"/>
              <a:pathLst>
                <a:path w="701" h="537">
                  <a:moveTo>
                    <a:pt x="0" y="0"/>
                  </a:moveTo>
                  <a:lnTo>
                    <a:pt x="10" y="53"/>
                  </a:lnTo>
                  <a:lnTo>
                    <a:pt x="32" y="107"/>
                  </a:lnTo>
                  <a:lnTo>
                    <a:pt x="43" y="152"/>
                  </a:lnTo>
                  <a:lnTo>
                    <a:pt x="63" y="187"/>
                  </a:lnTo>
                  <a:lnTo>
                    <a:pt x="74" y="223"/>
                  </a:lnTo>
                  <a:lnTo>
                    <a:pt x="95" y="250"/>
                  </a:lnTo>
                  <a:lnTo>
                    <a:pt x="106" y="277"/>
                  </a:lnTo>
                  <a:lnTo>
                    <a:pt x="117" y="304"/>
                  </a:lnTo>
                  <a:lnTo>
                    <a:pt x="138" y="330"/>
                  </a:lnTo>
                  <a:lnTo>
                    <a:pt x="148" y="348"/>
                  </a:lnTo>
                  <a:lnTo>
                    <a:pt x="170" y="366"/>
                  </a:lnTo>
                  <a:lnTo>
                    <a:pt x="180" y="375"/>
                  </a:lnTo>
                  <a:lnTo>
                    <a:pt x="201" y="393"/>
                  </a:lnTo>
                  <a:lnTo>
                    <a:pt x="212" y="402"/>
                  </a:lnTo>
                  <a:lnTo>
                    <a:pt x="223" y="420"/>
                  </a:lnTo>
                  <a:lnTo>
                    <a:pt x="243" y="429"/>
                  </a:lnTo>
                  <a:lnTo>
                    <a:pt x="254" y="438"/>
                  </a:lnTo>
                  <a:lnTo>
                    <a:pt x="276" y="447"/>
                  </a:lnTo>
                  <a:lnTo>
                    <a:pt x="287" y="456"/>
                  </a:lnTo>
                  <a:lnTo>
                    <a:pt x="307" y="456"/>
                  </a:lnTo>
                  <a:lnTo>
                    <a:pt x="318" y="465"/>
                  </a:lnTo>
                  <a:lnTo>
                    <a:pt x="339" y="474"/>
                  </a:lnTo>
                  <a:lnTo>
                    <a:pt x="350" y="474"/>
                  </a:lnTo>
                  <a:lnTo>
                    <a:pt x="360" y="483"/>
                  </a:lnTo>
                  <a:lnTo>
                    <a:pt x="382" y="483"/>
                  </a:lnTo>
                  <a:lnTo>
                    <a:pt x="392" y="491"/>
                  </a:lnTo>
                  <a:lnTo>
                    <a:pt x="413" y="491"/>
                  </a:lnTo>
                  <a:lnTo>
                    <a:pt x="424" y="500"/>
                  </a:lnTo>
                  <a:lnTo>
                    <a:pt x="445" y="500"/>
                  </a:lnTo>
                  <a:lnTo>
                    <a:pt x="456" y="500"/>
                  </a:lnTo>
                  <a:lnTo>
                    <a:pt x="467" y="509"/>
                  </a:lnTo>
                  <a:lnTo>
                    <a:pt x="487" y="509"/>
                  </a:lnTo>
                  <a:lnTo>
                    <a:pt x="498" y="509"/>
                  </a:lnTo>
                  <a:lnTo>
                    <a:pt x="520" y="518"/>
                  </a:lnTo>
                  <a:lnTo>
                    <a:pt x="529" y="518"/>
                  </a:lnTo>
                  <a:lnTo>
                    <a:pt x="551" y="518"/>
                  </a:lnTo>
                  <a:lnTo>
                    <a:pt x="562" y="518"/>
                  </a:lnTo>
                  <a:lnTo>
                    <a:pt x="582" y="527"/>
                  </a:lnTo>
                  <a:lnTo>
                    <a:pt x="593" y="527"/>
                  </a:lnTo>
                  <a:lnTo>
                    <a:pt x="604" y="527"/>
                  </a:lnTo>
                  <a:lnTo>
                    <a:pt x="625" y="527"/>
                  </a:lnTo>
                  <a:lnTo>
                    <a:pt x="636" y="527"/>
                  </a:lnTo>
                  <a:lnTo>
                    <a:pt x="657" y="527"/>
                  </a:lnTo>
                  <a:lnTo>
                    <a:pt x="668" y="536"/>
                  </a:lnTo>
                  <a:lnTo>
                    <a:pt x="689" y="536"/>
                  </a:lnTo>
                  <a:lnTo>
                    <a:pt x="700" y="536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61800" y="3717360"/>
              <a:ext cx="1558800" cy="1796400"/>
            </a:xfrm>
            <a:custGeom>
              <a:avLst/>
              <a:gdLst/>
              <a:ahLst/>
              <a:rect l="l" t="t" r="r" b="b"/>
              <a:pathLst>
                <a:path w="975" h="1066">
                  <a:moveTo>
                    <a:pt x="0" y="940"/>
                  </a:moveTo>
                  <a:lnTo>
                    <a:pt x="9" y="948"/>
                  </a:lnTo>
                  <a:lnTo>
                    <a:pt x="31" y="957"/>
                  </a:lnTo>
                  <a:lnTo>
                    <a:pt x="42" y="966"/>
                  </a:lnTo>
                  <a:lnTo>
                    <a:pt x="62" y="975"/>
                  </a:lnTo>
                  <a:lnTo>
                    <a:pt x="73" y="984"/>
                  </a:lnTo>
                  <a:lnTo>
                    <a:pt x="95" y="993"/>
                  </a:lnTo>
                  <a:lnTo>
                    <a:pt x="106" y="1002"/>
                  </a:lnTo>
                  <a:lnTo>
                    <a:pt x="115" y="1011"/>
                  </a:lnTo>
                  <a:lnTo>
                    <a:pt x="137" y="1020"/>
                  </a:lnTo>
                  <a:lnTo>
                    <a:pt x="148" y="1029"/>
                  </a:lnTo>
                  <a:lnTo>
                    <a:pt x="169" y="1038"/>
                  </a:lnTo>
                  <a:lnTo>
                    <a:pt x="179" y="1047"/>
                  </a:lnTo>
                  <a:lnTo>
                    <a:pt x="201" y="1056"/>
                  </a:lnTo>
                  <a:lnTo>
                    <a:pt x="211" y="1056"/>
                  </a:lnTo>
                  <a:lnTo>
                    <a:pt x="232" y="1065"/>
                  </a:lnTo>
                  <a:lnTo>
                    <a:pt x="243" y="1065"/>
                  </a:lnTo>
                  <a:lnTo>
                    <a:pt x="253" y="1065"/>
                  </a:lnTo>
                  <a:lnTo>
                    <a:pt x="275" y="1065"/>
                  </a:lnTo>
                  <a:lnTo>
                    <a:pt x="286" y="1065"/>
                  </a:lnTo>
                  <a:lnTo>
                    <a:pt x="306" y="1056"/>
                  </a:lnTo>
                  <a:lnTo>
                    <a:pt x="317" y="1056"/>
                  </a:lnTo>
                  <a:lnTo>
                    <a:pt x="339" y="1047"/>
                  </a:lnTo>
                  <a:lnTo>
                    <a:pt x="348" y="1029"/>
                  </a:lnTo>
                  <a:lnTo>
                    <a:pt x="359" y="1020"/>
                  </a:lnTo>
                  <a:lnTo>
                    <a:pt x="381" y="1002"/>
                  </a:lnTo>
                  <a:lnTo>
                    <a:pt x="392" y="984"/>
                  </a:lnTo>
                  <a:lnTo>
                    <a:pt x="412" y="966"/>
                  </a:lnTo>
                  <a:lnTo>
                    <a:pt x="423" y="940"/>
                  </a:lnTo>
                  <a:lnTo>
                    <a:pt x="444" y="913"/>
                  </a:lnTo>
                  <a:lnTo>
                    <a:pt x="455" y="886"/>
                  </a:lnTo>
                  <a:lnTo>
                    <a:pt x="476" y="850"/>
                  </a:lnTo>
                  <a:lnTo>
                    <a:pt x="487" y="814"/>
                  </a:lnTo>
                  <a:lnTo>
                    <a:pt x="497" y="779"/>
                  </a:lnTo>
                  <a:lnTo>
                    <a:pt x="518" y="734"/>
                  </a:lnTo>
                  <a:lnTo>
                    <a:pt x="529" y="689"/>
                  </a:lnTo>
                  <a:lnTo>
                    <a:pt x="550" y="644"/>
                  </a:lnTo>
                  <a:lnTo>
                    <a:pt x="561" y="600"/>
                  </a:lnTo>
                  <a:lnTo>
                    <a:pt x="582" y="555"/>
                  </a:lnTo>
                  <a:lnTo>
                    <a:pt x="592" y="501"/>
                  </a:lnTo>
                  <a:lnTo>
                    <a:pt x="603" y="457"/>
                  </a:lnTo>
                  <a:lnTo>
                    <a:pt x="625" y="412"/>
                  </a:lnTo>
                  <a:lnTo>
                    <a:pt x="635" y="367"/>
                  </a:lnTo>
                  <a:lnTo>
                    <a:pt x="656" y="322"/>
                  </a:lnTo>
                  <a:lnTo>
                    <a:pt x="667" y="278"/>
                  </a:lnTo>
                  <a:lnTo>
                    <a:pt x="687" y="233"/>
                  </a:lnTo>
                  <a:lnTo>
                    <a:pt x="698" y="197"/>
                  </a:lnTo>
                  <a:lnTo>
                    <a:pt x="720" y="161"/>
                  </a:lnTo>
                  <a:lnTo>
                    <a:pt x="731" y="126"/>
                  </a:lnTo>
                  <a:lnTo>
                    <a:pt x="741" y="90"/>
                  </a:lnTo>
                  <a:lnTo>
                    <a:pt x="762" y="63"/>
                  </a:lnTo>
                  <a:lnTo>
                    <a:pt x="773" y="45"/>
                  </a:lnTo>
                  <a:lnTo>
                    <a:pt x="794" y="27"/>
                  </a:lnTo>
                  <a:lnTo>
                    <a:pt x="804" y="9"/>
                  </a:lnTo>
                  <a:lnTo>
                    <a:pt x="826" y="0"/>
                  </a:lnTo>
                  <a:lnTo>
                    <a:pt x="836" y="0"/>
                  </a:lnTo>
                  <a:lnTo>
                    <a:pt x="847" y="0"/>
                  </a:lnTo>
                  <a:lnTo>
                    <a:pt x="868" y="9"/>
                  </a:lnTo>
                  <a:lnTo>
                    <a:pt x="878" y="27"/>
                  </a:lnTo>
                  <a:lnTo>
                    <a:pt x="900" y="45"/>
                  </a:lnTo>
                  <a:lnTo>
                    <a:pt x="911" y="63"/>
                  </a:lnTo>
                  <a:lnTo>
                    <a:pt x="931" y="90"/>
                  </a:lnTo>
                  <a:lnTo>
                    <a:pt x="942" y="126"/>
                  </a:lnTo>
                  <a:lnTo>
                    <a:pt x="953" y="161"/>
                  </a:lnTo>
                  <a:lnTo>
                    <a:pt x="974" y="197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19160" y="4049280"/>
              <a:ext cx="1120680" cy="1464120"/>
            </a:xfrm>
            <a:custGeom>
              <a:avLst/>
              <a:gdLst/>
              <a:ahLst/>
              <a:rect l="l" t="t" r="r" b="b"/>
              <a:pathLst>
                <a:path w="701" h="869">
                  <a:moveTo>
                    <a:pt x="0" y="0"/>
                  </a:moveTo>
                  <a:lnTo>
                    <a:pt x="10" y="36"/>
                  </a:lnTo>
                  <a:lnTo>
                    <a:pt x="32" y="81"/>
                  </a:lnTo>
                  <a:lnTo>
                    <a:pt x="43" y="125"/>
                  </a:lnTo>
                  <a:lnTo>
                    <a:pt x="63" y="170"/>
                  </a:lnTo>
                  <a:lnTo>
                    <a:pt x="74" y="215"/>
                  </a:lnTo>
                  <a:lnTo>
                    <a:pt x="95" y="260"/>
                  </a:lnTo>
                  <a:lnTo>
                    <a:pt x="106" y="304"/>
                  </a:lnTo>
                  <a:lnTo>
                    <a:pt x="117" y="358"/>
                  </a:lnTo>
                  <a:lnTo>
                    <a:pt x="138" y="403"/>
                  </a:lnTo>
                  <a:lnTo>
                    <a:pt x="148" y="447"/>
                  </a:lnTo>
                  <a:lnTo>
                    <a:pt x="170" y="492"/>
                  </a:lnTo>
                  <a:lnTo>
                    <a:pt x="180" y="537"/>
                  </a:lnTo>
                  <a:lnTo>
                    <a:pt x="201" y="582"/>
                  </a:lnTo>
                  <a:lnTo>
                    <a:pt x="212" y="617"/>
                  </a:lnTo>
                  <a:lnTo>
                    <a:pt x="223" y="653"/>
                  </a:lnTo>
                  <a:lnTo>
                    <a:pt x="243" y="689"/>
                  </a:lnTo>
                  <a:lnTo>
                    <a:pt x="254" y="716"/>
                  </a:lnTo>
                  <a:lnTo>
                    <a:pt x="276" y="743"/>
                  </a:lnTo>
                  <a:lnTo>
                    <a:pt x="287" y="769"/>
                  </a:lnTo>
                  <a:lnTo>
                    <a:pt x="307" y="787"/>
                  </a:lnTo>
                  <a:lnTo>
                    <a:pt x="318" y="805"/>
                  </a:lnTo>
                  <a:lnTo>
                    <a:pt x="339" y="823"/>
                  </a:lnTo>
                  <a:lnTo>
                    <a:pt x="350" y="832"/>
                  </a:lnTo>
                  <a:lnTo>
                    <a:pt x="360" y="850"/>
                  </a:lnTo>
                  <a:lnTo>
                    <a:pt x="382" y="859"/>
                  </a:lnTo>
                  <a:lnTo>
                    <a:pt x="392" y="859"/>
                  </a:lnTo>
                  <a:lnTo>
                    <a:pt x="413" y="868"/>
                  </a:lnTo>
                  <a:lnTo>
                    <a:pt x="424" y="868"/>
                  </a:lnTo>
                  <a:lnTo>
                    <a:pt x="445" y="868"/>
                  </a:lnTo>
                  <a:lnTo>
                    <a:pt x="456" y="868"/>
                  </a:lnTo>
                  <a:lnTo>
                    <a:pt x="467" y="868"/>
                  </a:lnTo>
                  <a:lnTo>
                    <a:pt x="487" y="859"/>
                  </a:lnTo>
                  <a:lnTo>
                    <a:pt x="498" y="859"/>
                  </a:lnTo>
                  <a:lnTo>
                    <a:pt x="520" y="850"/>
                  </a:lnTo>
                  <a:lnTo>
                    <a:pt x="529" y="841"/>
                  </a:lnTo>
                  <a:lnTo>
                    <a:pt x="551" y="832"/>
                  </a:lnTo>
                  <a:lnTo>
                    <a:pt x="562" y="823"/>
                  </a:lnTo>
                  <a:lnTo>
                    <a:pt x="582" y="814"/>
                  </a:lnTo>
                  <a:lnTo>
                    <a:pt x="593" y="805"/>
                  </a:lnTo>
                  <a:lnTo>
                    <a:pt x="604" y="796"/>
                  </a:lnTo>
                  <a:lnTo>
                    <a:pt x="625" y="787"/>
                  </a:lnTo>
                  <a:lnTo>
                    <a:pt x="636" y="778"/>
                  </a:lnTo>
                  <a:lnTo>
                    <a:pt x="657" y="769"/>
                  </a:lnTo>
                  <a:lnTo>
                    <a:pt x="668" y="760"/>
                  </a:lnTo>
                  <a:lnTo>
                    <a:pt x="689" y="751"/>
                  </a:lnTo>
                  <a:lnTo>
                    <a:pt x="700" y="743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788920" y="3386880"/>
              <a:ext cx="1387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Spline Natural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989680" y="56163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89680" y="37173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598968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868356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989680" y="37173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83560" y="5616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89680" y="56163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98968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89680" y="56163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610776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10776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888520" y="5626440"/>
              <a:ext cx="355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734364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4364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92800" y="56264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856548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56548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413200" y="56264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89680" y="5616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8647920" y="5616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18960" y="538020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89680" y="46677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8647920" y="46677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32480" y="4431960"/>
              <a:ext cx="451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89680" y="3717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8647920" y="3717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18960" y="348156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89680" y="56163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9680" y="37173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98968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868356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989680" y="56163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683560" y="3717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40800" y="554256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07760" y="548172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40800" y="54817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6040440" y="54817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649920" y="536040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18680" y="530136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49920" y="530136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6649560" y="530136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76680" y="371736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343640" y="365832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276680" y="365832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7276320" y="365832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885800" y="536040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954200" y="530136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885800" y="530136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7885440" y="530136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496360" y="554256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565480" y="548172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496360" y="54817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8496000" y="54817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89680" y="3717360"/>
              <a:ext cx="1577880" cy="1841760"/>
            </a:xfrm>
            <a:custGeom>
              <a:avLst/>
              <a:gdLst/>
              <a:ahLst/>
              <a:rect l="l" t="t" r="r" b="b"/>
              <a:pathLst>
                <a:path w="987" h="1093">
                  <a:moveTo>
                    <a:pt x="0" y="1092"/>
                  </a:moveTo>
                  <a:lnTo>
                    <a:pt x="10" y="1092"/>
                  </a:lnTo>
                  <a:lnTo>
                    <a:pt x="31" y="1092"/>
                  </a:lnTo>
                  <a:lnTo>
                    <a:pt x="42" y="1092"/>
                  </a:lnTo>
                  <a:lnTo>
                    <a:pt x="63" y="1083"/>
                  </a:lnTo>
                  <a:lnTo>
                    <a:pt x="73" y="1083"/>
                  </a:lnTo>
                  <a:lnTo>
                    <a:pt x="95" y="1083"/>
                  </a:lnTo>
                  <a:lnTo>
                    <a:pt x="106" y="1083"/>
                  </a:lnTo>
                  <a:lnTo>
                    <a:pt x="126" y="1083"/>
                  </a:lnTo>
                  <a:lnTo>
                    <a:pt x="137" y="1074"/>
                  </a:lnTo>
                  <a:lnTo>
                    <a:pt x="148" y="1074"/>
                  </a:lnTo>
                  <a:lnTo>
                    <a:pt x="169" y="1074"/>
                  </a:lnTo>
                  <a:lnTo>
                    <a:pt x="179" y="1074"/>
                  </a:lnTo>
                  <a:lnTo>
                    <a:pt x="201" y="1065"/>
                  </a:lnTo>
                  <a:lnTo>
                    <a:pt x="212" y="1065"/>
                  </a:lnTo>
                  <a:lnTo>
                    <a:pt x="232" y="1065"/>
                  </a:lnTo>
                  <a:lnTo>
                    <a:pt x="243" y="1056"/>
                  </a:lnTo>
                  <a:lnTo>
                    <a:pt x="264" y="1056"/>
                  </a:lnTo>
                  <a:lnTo>
                    <a:pt x="275" y="1047"/>
                  </a:lnTo>
                  <a:lnTo>
                    <a:pt x="286" y="1047"/>
                  </a:lnTo>
                  <a:lnTo>
                    <a:pt x="307" y="1038"/>
                  </a:lnTo>
                  <a:lnTo>
                    <a:pt x="317" y="1038"/>
                  </a:lnTo>
                  <a:lnTo>
                    <a:pt x="339" y="1029"/>
                  </a:lnTo>
                  <a:lnTo>
                    <a:pt x="349" y="1029"/>
                  </a:lnTo>
                  <a:lnTo>
                    <a:pt x="370" y="1020"/>
                  </a:lnTo>
                  <a:lnTo>
                    <a:pt x="381" y="1011"/>
                  </a:lnTo>
                  <a:lnTo>
                    <a:pt x="403" y="1011"/>
                  </a:lnTo>
                  <a:lnTo>
                    <a:pt x="412" y="1002"/>
                  </a:lnTo>
                  <a:lnTo>
                    <a:pt x="423" y="993"/>
                  </a:lnTo>
                  <a:lnTo>
                    <a:pt x="445" y="984"/>
                  </a:lnTo>
                  <a:lnTo>
                    <a:pt x="456" y="975"/>
                  </a:lnTo>
                  <a:lnTo>
                    <a:pt x="476" y="957"/>
                  </a:lnTo>
                  <a:lnTo>
                    <a:pt x="487" y="948"/>
                  </a:lnTo>
                  <a:lnTo>
                    <a:pt x="508" y="931"/>
                  </a:lnTo>
                  <a:lnTo>
                    <a:pt x="519" y="922"/>
                  </a:lnTo>
                  <a:lnTo>
                    <a:pt x="540" y="904"/>
                  </a:lnTo>
                  <a:lnTo>
                    <a:pt x="551" y="886"/>
                  </a:lnTo>
                  <a:lnTo>
                    <a:pt x="561" y="859"/>
                  </a:lnTo>
                  <a:lnTo>
                    <a:pt x="582" y="841"/>
                  </a:lnTo>
                  <a:lnTo>
                    <a:pt x="593" y="814"/>
                  </a:lnTo>
                  <a:lnTo>
                    <a:pt x="614" y="779"/>
                  </a:lnTo>
                  <a:lnTo>
                    <a:pt x="625" y="743"/>
                  </a:lnTo>
                  <a:lnTo>
                    <a:pt x="646" y="707"/>
                  </a:lnTo>
                  <a:lnTo>
                    <a:pt x="656" y="662"/>
                  </a:lnTo>
                  <a:lnTo>
                    <a:pt x="678" y="618"/>
                  </a:lnTo>
                  <a:lnTo>
                    <a:pt x="689" y="564"/>
                  </a:lnTo>
                  <a:lnTo>
                    <a:pt x="698" y="501"/>
                  </a:lnTo>
                  <a:lnTo>
                    <a:pt x="720" y="439"/>
                  </a:lnTo>
                  <a:lnTo>
                    <a:pt x="731" y="367"/>
                  </a:lnTo>
                  <a:lnTo>
                    <a:pt x="751" y="296"/>
                  </a:lnTo>
                  <a:lnTo>
                    <a:pt x="762" y="224"/>
                  </a:lnTo>
                  <a:lnTo>
                    <a:pt x="784" y="152"/>
                  </a:lnTo>
                  <a:lnTo>
                    <a:pt x="794" y="90"/>
                  </a:lnTo>
                  <a:lnTo>
                    <a:pt x="815" y="45"/>
                  </a:lnTo>
                  <a:lnTo>
                    <a:pt x="826" y="9"/>
                  </a:lnTo>
                  <a:lnTo>
                    <a:pt x="847" y="0"/>
                  </a:lnTo>
                  <a:lnTo>
                    <a:pt x="858" y="9"/>
                  </a:lnTo>
                  <a:lnTo>
                    <a:pt x="868" y="45"/>
                  </a:lnTo>
                  <a:lnTo>
                    <a:pt x="890" y="90"/>
                  </a:lnTo>
                  <a:lnTo>
                    <a:pt x="900" y="152"/>
                  </a:lnTo>
                  <a:lnTo>
                    <a:pt x="922" y="224"/>
                  </a:lnTo>
                  <a:lnTo>
                    <a:pt x="932" y="296"/>
                  </a:lnTo>
                  <a:lnTo>
                    <a:pt x="953" y="367"/>
                  </a:lnTo>
                  <a:lnTo>
                    <a:pt x="964" y="439"/>
                  </a:lnTo>
                  <a:lnTo>
                    <a:pt x="986" y="501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66120" y="4561560"/>
              <a:ext cx="1119240" cy="997560"/>
            </a:xfrm>
            <a:custGeom>
              <a:avLst/>
              <a:gdLst/>
              <a:ahLst/>
              <a:rect l="l" t="t" r="r" b="b"/>
              <a:pathLst>
                <a:path w="700" h="592">
                  <a:moveTo>
                    <a:pt x="0" y="0"/>
                  </a:moveTo>
                  <a:lnTo>
                    <a:pt x="9" y="63"/>
                  </a:lnTo>
                  <a:lnTo>
                    <a:pt x="20" y="117"/>
                  </a:lnTo>
                  <a:lnTo>
                    <a:pt x="42" y="161"/>
                  </a:lnTo>
                  <a:lnTo>
                    <a:pt x="52" y="206"/>
                  </a:lnTo>
                  <a:lnTo>
                    <a:pt x="73" y="242"/>
                  </a:lnTo>
                  <a:lnTo>
                    <a:pt x="84" y="278"/>
                  </a:lnTo>
                  <a:lnTo>
                    <a:pt x="105" y="313"/>
                  </a:lnTo>
                  <a:lnTo>
                    <a:pt x="115" y="340"/>
                  </a:lnTo>
                  <a:lnTo>
                    <a:pt x="137" y="358"/>
                  </a:lnTo>
                  <a:lnTo>
                    <a:pt x="147" y="385"/>
                  </a:lnTo>
                  <a:lnTo>
                    <a:pt x="158" y="403"/>
                  </a:lnTo>
                  <a:lnTo>
                    <a:pt x="179" y="421"/>
                  </a:lnTo>
                  <a:lnTo>
                    <a:pt x="190" y="430"/>
                  </a:lnTo>
                  <a:lnTo>
                    <a:pt x="211" y="447"/>
                  </a:lnTo>
                  <a:lnTo>
                    <a:pt x="222" y="456"/>
                  </a:lnTo>
                  <a:lnTo>
                    <a:pt x="242" y="474"/>
                  </a:lnTo>
                  <a:lnTo>
                    <a:pt x="253" y="483"/>
                  </a:lnTo>
                  <a:lnTo>
                    <a:pt x="275" y="492"/>
                  </a:lnTo>
                  <a:lnTo>
                    <a:pt x="286" y="501"/>
                  </a:lnTo>
                  <a:lnTo>
                    <a:pt x="295" y="510"/>
                  </a:lnTo>
                  <a:lnTo>
                    <a:pt x="317" y="510"/>
                  </a:lnTo>
                  <a:lnTo>
                    <a:pt x="328" y="519"/>
                  </a:lnTo>
                  <a:lnTo>
                    <a:pt x="348" y="528"/>
                  </a:lnTo>
                  <a:lnTo>
                    <a:pt x="359" y="528"/>
                  </a:lnTo>
                  <a:lnTo>
                    <a:pt x="381" y="537"/>
                  </a:lnTo>
                  <a:lnTo>
                    <a:pt x="391" y="537"/>
                  </a:lnTo>
                  <a:lnTo>
                    <a:pt x="412" y="546"/>
                  </a:lnTo>
                  <a:lnTo>
                    <a:pt x="423" y="546"/>
                  </a:lnTo>
                  <a:lnTo>
                    <a:pt x="434" y="555"/>
                  </a:lnTo>
                  <a:lnTo>
                    <a:pt x="455" y="555"/>
                  </a:lnTo>
                  <a:lnTo>
                    <a:pt x="466" y="564"/>
                  </a:lnTo>
                  <a:lnTo>
                    <a:pt x="486" y="564"/>
                  </a:lnTo>
                  <a:lnTo>
                    <a:pt x="497" y="564"/>
                  </a:lnTo>
                  <a:lnTo>
                    <a:pt x="519" y="573"/>
                  </a:lnTo>
                  <a:lnTo>
                    <a:pt x="529" y="573"/>
                  </a:lnTo>
                  <a:lnTo>
                    <a:pt x="550" y="573"/>
                  </a:lnTo>
                  <a:lnTo>
                    <a:pt x="561" y="573"/>
                  </a:lnTo>
                  <a:lnTo>
                    <a:pt x="572" y="582"/>
                  </a:lnTo>
                  <a:lnTo>
                    <a:pt x="592" y="582"/>
                  </a:lnTo>
                  <a:lnTo>
                    <a:pt x="603" y="582"/>
                  </a:lnTo>
                  <a:lnTo>
                    <a:pt x="625" y="582"/>
                  </a:lnTo>
                  <a:lnTo>
                    <a:pt x="635" y="582"/>
                  </a:lnTo>
                  <a:lnTo>
                    <a:pt x="656" y="591"/>
                  </a:lnTo>
                  <a:lnTo>
                    <a:pt x="667" y="591"/>
                  </a:lnTo>
                  <a:lnTo>
                    <a:pt x="688" y="591"/>
                  </a:lnTo>
                  <a:lnTo>
                    <a:pt x="699" y="591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89680" y="3717360"/>
              <a:ext cx="1577880" cy="1900800"/>
            </a:xfrm>
            <a:custGeom>
              <a:avLst/>
              <a:gdLst/>
              <a:ahLst/>
              <a:rect l="l" t="t" r="r" b="b"/>
              <a:pathLst>
                <a:path w="987" h="1128">
                  <a:moveTo>
                    <a:pt x="0" y="1118"/>
                  </a:moveTo>
                  <a:lnTo>
                    <a:pt x="10" y="1109"/>
                  </a:lnTo>
                  <a:lnTo>
                    <a:pt x="31" y="1101"/>
                  </a:lnTo>
                  <a:lnTo>
                    <a:pt x="42" y="1092"/>
                  </a:lnTo>
                  <a:lnTo>
                    <a:pt x="63" y="1083"/>
                  </a:lnTo>
                  <a:lnTo>
                    <a:pt x="73" y="1083"/>
                  </a:lnTo>
                  <a:lnTo>
                    <a:pt x="95" y="1083"/>
                  </a:lnTo>
                  <a:lnTo>
                    <a:pt x="106" y="1083"/>
                  </a:lnTo>
                  <a:lnTo>
                    <a:pt x="126" y="1083"/>
                  </a:lnTo>
                  <a:lnTo>
                    <a:pt x="137" y="1092"/>
                  </a:lnTo>
                  <a:lnTo>
                    <a:pt x="148" y="1092"/>
                  </a:lnTo>
                  <a:lnTo>
                    <a:pt x="169" y="1101"/>
                  </a:lnTo>
                  <a:lnTo>
                    <a:pt x="179" y="1101"/>
                  </a:lnTo>
                  <a:lnTo>
                    <a:pt x="201" y="1109"/>
                  </a:lnTo>
                  <a:lnTo>
                    <a:pt x="212" y="1109"/>
                  </a:lnTo>
                  <a:lnTo>
                    <a:pt x="232" y="1118"/>
                  </a:lnTo>
                  <a:lnTo>
                    <a:pt x="243" y="1118"/>
                  </a:lnTo>
                  <a:lnTo>
                    <a:pt x="264" y="1118"/>
                  </a:lnTo>
                  <a:lnTo>
                    <a:pt x="275" y="1127"/>
                  </a:lnTo>
                  <a:lnTo>
                    <a:pt x="286" y="1127"/>
                  </a:lnTo>
                  <a:lnTo>
                    <a:pt x="307" y="1118"/>
                  </a:lnTo>
                  <a:lnTo>
                    <a:pt x="317" y="1118"/>
                  </a:lnTo>
                  <a:lnTo>
                    <a:pt x="339" y="1118"/>
                  </a:lnTo>
                  <a:lnTo>
                    <a:pt x="349" y="1109"/>
                  </a:lnTo>
                  <a:lnTo>
                    <a:pt x="370" y="1101"/>
                  </a:lnTo>
                  <a:lnTo>
                    <a:pt x="381" y="1083"/>
                  </a:lnTo>
                  <a:lnTo>
                    <a:pt x="403" y="1065"/>
                  </a:lnTo>
                  <a:lnTo>
                    <a:pt x="412" y="1047"/>
                  </a:lnTo>
                  <a:lnTo>
                    <a:pt x="423" y="1029"/>
                  </a:lnTo>
                  <a:lnTo>
                    <a:pt x="445" y="1002"/>
                  </a:lnTo>
                  <a:lnTo>
                    <a:pt x="456" y="975"/>
                  </a:lnTo>
                  <a:lnTo>
                    <a:pt x="476" y="940"/>
                  </a:lnTo>
                  <a:lnTo>
                    <a:pt x="487" y="904"/>
                  </a:lnTo>
                  <a:lnTo>
                    <a:pt x="508" y="859"/>
                  </a:lnTo>
                  <a:lnTo>
                    <a:pt x="519" y="814"/>
                  </a:lnTo>
                  <a:lnTo>
                    <a:pt x="540" y="770"/>
                  </a:lnTo>
                  <a:lnTo>
                    <a:pt x="551" y="716"/>
                  </a:lnTo>
                  <a:lnTo>
                    <a:pt x="561" y="671"/>
                  </a:lnTo>
                  <a:lnTo>
                    <a:pt x="582" y="618"/>
                  </a:lnTo>
                  <a:lnTo>
                    <a:pt x="593" y="564"/>
                  </a:lnTo>
                  <a:lnTo>
                    <a:pt x="614" y="510"/>
                  </a:lnTo>
                  <a:lnTo>
                    <a:pt x="625" y="465"/>
                  </a:lnTo>
                  <a:lnTo>
                    <a:pt x="646" y="412"/>
                  </a:lnTo>
                  <a:lnTo>
                    <a:pt x="656" y="358"/>
                  </a:lnTo>
                  <a:lnTo>
                    <a:pt x="678" y="313"/>
                  </a:lnTo>
                  <a:lnTo>
                    <a:pt x="689" y="269"/>
                  </a:lnTo>
                  <a:lnTo>
                    <a:pt x="698" y="224"/>
                  </a:lnTo>
                  <a:lnTo>
                    <a:pt x="720" y="179"/>
                  </a:lnTo>
                  <a:lnTo>
                    <a:pt x="731" y="144"/>
                  </a:lnTo>
                  <a:lnTo>
                    <a:pt x="751" y="108"/>
                  </a:lnTo>
                  <a:lnTo>
                    <a:pt x="762" y="72"/>
                  </a:lnTo>
                  <a:lnTo>
                    <a:pt x="784" y="54"/>
                  </a:lnTo>
                  <a:lnTo>
                    <a:pt x="794" y="27"/>
                  </a:lnTo>
                  <a:lnTo>
                    <a:pt x="815" y="9"/>
                  </a:lnTo>
                  <a:lnTo>
                    <a:pt x="826" y="0"/>
                  </a:lnTo>
                  <a:lnTo>
                    <a:pt x="847" y="0"/>
                  </a:lnTo>
                  <a:lnTo>
                    <a:pt x="858" y="0"/>
                  </a:lnTo>
                  <a:lnTo>
                    <a:pt x="868" y="9"/>
                  </a:lnTo>
                  <a:lnTo>
                    <a:pt x="890" y="27"/>
                  </a:lnTo>
                  <a:lnTo>
                    <a:pt x="900" y="54"/>
                  </a:lnTo>
                  <a:lnTo>
                    <a:pt x="922" y="72"/>
                  </a:lnTo>
                  <a:lnTo>
                    <a:pt x="932" y="108"/>
                  </a:lnTo>
                  <a:lnTo>
                    <a:pt x="953" y="144"/>
                  </a:lnTo>
                  <a:lnTo>
                    <a:pt x="964" y="179"/>
                  </a:lnTo>
                  <a:lnTo>
                    <a:pt x="986" y="224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66120" y="4094640"/>
              <a:ext cx="1119240" cy="1523160"/>
            </a:xfrm>
            <a:custGeom>
              <a:avLst/>
              <a:gdLst/>
              <a:ahLst/>
              <a:rect l="l" t="t" r="r" b="b"/>
              <a:pathLst>
                <a:path w="700" h="904">
                  <a:moveTo>
                    <a:pt x="0" y="0"/>
                  </a:moveTo>
                  <a:lnTo>
                    <a:pt x="9" y="45"/>
                  </a:lnTo>
                  <a:lnTo>
                    <a:pt x="20" y="89"/>
                  </a:lnTo>
                  <a:lnTo>
                    <a:pt x="42" y="134"/>
                  </a:lnTo>
                  <a:lnTo>
                    <a:pt x="52" y="188"/>
                  </a:lnTo>
                  <a:lnTo>
                    <a:pt x="73" y="241"/>
                  </a:lnTo>
                  <a:lnTo>
                    <a:pt x="84" y="286"/>
                  </a:lnTo>
                  <a:lnTo>
                    <a:pt x="105" y="340"/>
                  </a:lnTo>
                  <a:lnTo>
                    <a:pt x="115" y="394"/>
                  </a:lnTo>
                  <a:lnTo>
                    <a:pt x="137" y="447"/>
                  </a:lnTo>
                  <a:lnTo>
                    <a:pt x="147" y="492"/>
                  </a:lnTo>
                  <a:lnTo>
                    <a:pt x="158" y="546"/>
                  </a:lnTo>
                  <a:lnTo>
                    <a:pt x="179" y="590"/>
                  </a:lnTo>
                  <a:lnTo>
                    <a:pt x="190" y="635"/>
                  </a:lnTo>
                  <a:lnTo>
                    <a:pt x="211" y="680"/>
                  </a:lnTo>
                  <a:lnTo>
                    <a:pt x="222" y="716"/>
                  </a:lnTo>
                  <a:lnTo>
                    <a:pt x="242" y="751"/>
                  </a:lnTo>
                  <a:lnTo>
                    <a:pt x="253" y="778"/>
                  </a:lnTo>
                  <a:lnTo>
                    <a:pt x="275" y="805"/>
                  </a:lnTo>
                  <a:lnTo>
                    <a:pt x="286" y="823"/>
                  </a:lnTo>
                  <a:lnTo>
                    <a:pt x="295" y="841"/>
                  </a:lnTo>
                  <a:lnTo>
                    <a:pt x="317" y="859"/>
                  </a:lnTo>
                  <a:lnTo>
                    <a:pt x="328" y="877"/>
                  </a:lnTo>
                  <a:lnTo>
                    <a:pt x="348" y="885"/>
                  </a:lnTo>
                  <a:lnTo>
                    <a:pt x="359" y="894"/>
                  </a:lnTo>
                  <a:lnTo>
                    <a:pt x="381" y="894"/>
                  </a:lnTo>
                  <a:lnTo>
                    <a:pt x="391" y="894"/>
                  </a:lnTo>
                  <a:lnTo>
                    <a:pt x="412" y="903"/>
                  </a:lnTo>
                  <a:lnTo>
                    <a:pt x="423" y="903"/>
                  </a:lnTo>
                  <a:lnTo>
                    <a:pt x="434" y="894"/>
                  </a:lnTo>
                  <a:lnTo>
                    <a:pt x="455" y="894"/>
                  </a:lnTo>
                  <a:lnTo>
                    <a:pt x="466" y="894"/>
                  </a:lnTo>
                  <a:lnTo>
                    <a:pt x="486" y="885"/>
                  </a:lnTo>
                  <a:lnTo>
                    <a:pt x="497" y="885"/>
                  </a:lnTo>
                  <a:lnTo>
                    <a:pt x="519" y="877"/>
                  </a:lnTo>
                  <a:lnTo>
                    <a:pt x="529" y="877"/>
                  </a:lnTo>
                  <a:lnTo>
                    <a:pt x="550" y="868"/>
                  </a:lnTo>
                  <a:lnTo>
                    <a:pt x="561" y="868"/>
                  </a:lnTo>
                  <a:lnTo>
                    <a:pt x="572" y="859"/>
                  </a:lnTo>
                  <a:lnTo>
                    <a:pt x="592" y="859"/>
                  </a:lnTo>
                  <a:lnTo>
                    <a:pt x="603" y="859"/>
                  </a:lnTo>
                  <a:lnTo>
                    <a:pt x="625" y="859"/>
                  </a:lnTo>
                  <a:lnTo>
                    <a:pt x="635" y="859"/>
                  </a:lnTo>
                  <a:lnTo>
                    <a:pt x="656" y="868"/>
                  </a:lnTo>
                  <a:lnTo>
                    <a:pt x="667" y="877"/>
                  </a:lnTo>
                  <a:lnTo>
                    <a:pt x="688" y="885"/>
                  </a:lnTo>
                  <a:lnTo>
                    <a:pt x="699" y="894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42640" y="3386880"/>
              <a:ext cx="15368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Spline Derivada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989680" y="29487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989680" y="103464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598968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68356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989680" y="103464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683560" y="29487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989680" y="29487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598968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89680" y="29487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610776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10776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88520" y="2960640"/>
              <a:ext cx="355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734364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4364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92800" y="29606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856548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56548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413200" y="29606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89680" y="29487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8647920" y="29487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18960" y="271116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89680" y="2000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8647920" y="2000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532480" y="1762560"/>
              <a:ext cx="451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989680" y="10346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8647920" y="10346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718960" y="80028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989680" y="29487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89680" y="103464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598968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868356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89680" y="29487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683560" y="103464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40800" y="287460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07760" y="2813760"/>
              <a:ext cx="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40800" y="281376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6040440" y="281376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49920" y="267732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718680" y="2616840"/>
              <a:ext cx="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49920" y="2616840"/>
              <a:ext cx="13716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6649560" y="2616840"/>
              <a:ext cx="13716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276680" y="103464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43640" y="975240"/>
              <a:ext cx="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76680" y="975240"/>
              <a:ext cx="13716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7276320" y="975240"/>
              <a:ext cx="13716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885800" y="267732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54200" y="2616840"/>
              <a:ext cx="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885800" y="2616840"/>
              <a:ext cx="13716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7885440" y="2616840"/>
              <a:ext cx="13716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496360" y="287460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565480" y="2813760"/>
              <a:ext cx="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496360" y="281376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8496000" y="281376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89680" y="1034640"/>
              <a:ext cx="1577880" cy="1855080"/>
            </a:xfrm>
            <a:custGeom>
              <a:avLst/>
              <a:gdLst/>
              <a:ahLst/>
              <a:rect l="l" t="t" r="r" b="b"/>
              <a:pathLst>
                <a:path w="987" h="1101">
                  <a:moveTo>
                    <a:pt x="0" y="1100"/>
                  </a:moveTo>
                  <a:lnTo>
                    <a:pt x="10" y="1100"/>
                  </a:lnTo>
                  <a:lnTo>
                    <a:pt x="31" y="1100"/>
                  </a:lnTo>
                  <a:lnTo>
                    <a:pt x="42" y="1092"/>
                  </a:lnTo>
                  <a:lnTo>
                    <a:pt x="63" y="1092"/>
                  </a:lnTo>
                  <a:lnTo>
                    <a:pt x="73" y="1092"/>
                  </a:lnTo>
                  <a:lnTo>
                    <a:pt x="95" y="1092"/>
                  </a:lnTo>
                  <a:lnTo>
                    <a:pt x="106" y="1092"/>
                  </a:lnTo>
                  <a:lnTo>
                    <a:pt x="126" y="1083"/>
                  </a:lnTo>
                  <a:lnTo>
                    <a:pt x="137" y="1083"/>
                  </a:lnTo>
                  <a:lnTo>
                    <a:pt x="148" y="1083"/>
                  </a:lnTo>
                  <a:lnTo>
                    <a:pt x="169" y="1083"/>
                  </a:lnTo>
                  <a:lnTo>
                    <a:pt x="179" y="1074"/>
                  </a:lnTo>
                  <a:lnTo>
                    <a:pt x="201" y="1074"/>
                  </a:lnTo>
                  <a:lnTo>
                    <a:pt x="212" y="1074"/>
                  </a:lnTo>
                  <a:lnTo>
                    <a:pt x="232" y="1074"/>
                  </a:lnTo>
                  <a:lnTo>
                    <a:pt x="243" y="1065"/>
                  </a:lnTo>
                  <a:lnTo>
                    <a:pt x="264" y="1065"/>
                  </a:lnTo>
                  <a:lnTo>
                    <a:pt x="275" y="1056"/>
                  </a:lnTo>
                  <a:lnTo>
                    <a:pt x="286" y="1056"/>
                  </a:lnTo>
                  <a:lnTo>
                    <a:pt x="307" y="1047"/>
                  </a:lnTo>
                  <a:lnTo>
                    <a:pt x="317" y="1047"/>
                  </a:lnTo>
                  <a:lnTo>
                    <a:pt x="339" y="1038"/>
                  </a:lnTo>
                  <a:lnTo>
                    <a:pt x="349" y="1038"/>
                  </a:lnTo>
                  <a:lnTo>
                    <a:pt x="370" y="1029"/>
                  </a:lnTo>
                  <a:lnTo>
                    <a:pt x="381" y="1020"/>
                  </a:lnTo>
                  <a:lnTo>
                    <a:pt x="403" y="1020"/>
                  </a:lnTo>
                  <a:lnTo>
                    <a:pt x="412" y="1011"/>
                  </a:lnTo>
                  <a:lnTo>
                    <a:pt x="423" y="1002"/>
                  </a:lnTo>
                  <a:lnTo>
                    <a:pt x="445" y="993"/>
                  </a:lnTo>
                  <a:lnTo>
                    <a:pt x="456" y="975"/>
                  </a:lnTo>
                  <a:lnTo>
                    <a:pt x="476" y="966"/>
                  </a:lnTo>
                  <a:lnTo>
                    <a:pt x="487" y="957"/>
                  </a:lnTo>
                  <a:lnTo>
                    <a:pt x="508" y="939"/>
                  </a:lnTo>
                  <a:lnTo>
                    <a:pt x="519" y="931"/>
                  </a:lnTo>
                  <a:lnTo>
                    <a:pt x="540" y="913"/>
                  </a:lnTo>
                  <a:lnTo>
                    <a:pt x="551" y="886"/>
                  </a:lnTo>
                  <a:lnTo>
                    <a:pt x="561" y="868"/>
                  </a:lnTo>
                  <a:lnTo>
                    <a:pt x="582" y="841"/>
                  </a:lnTo>
                  <a:lnTo>
                    <a:pt x="593" y="814"/>
                  </a:lnTo>
                  <a:lnTo>
                    <a:pt x="614" y="787"/>
                  </a:lnTo>
                  <a:lnTo>
                    <a:pt x="625" y="752"/>
                  </a:lnTo>
                  <a:lnTo>
                    <a:pt x="646" y="716"/>
                  </a:lnTo>
                  <a:lnTo>
                    <a:pt x="656" y="671"/>
                  </a:lnTo>
                  <a:lnTo>
                    <a:pt x="678" y="626"/>
                  </a:lnTo>
                  <a:lnTo>
                    <a:pt x="689" y="573"/>
                  </a:lnTo>
                  <a:lnTo>
                    <a:pt x="698" y="510"/>
                  </a:lnTo>
                  <a:lnTo>
                    <a:pt x="720" y="448"/>
                  </a:lnTo>
                  <a:lnTo>
                    <a:pt x="731" y="376"/>
                  </a:lnTo>
                  <a:lnTo>
                    <a:pt x="751" y="304"/>
                  </a:lnTo>
                  <a:lnTo>
                    <a:pt x="762" y="224"/>
                  </a:lnTo>
                  <a:lnTo>
                    <a:pt x="784" y="161"/>
                  </a:lnTo>
                  <a:lnTo>
                    <a:pt x="794" y="90"/>
                  </a:lnTo>
                  <a:lnTo>
                    <a:pt x="815" y="45"/>
                  </a:lnTo>
                  <a:lnTo>
                    <a:pt x="826" y="9"/>
                  </a:lnTo>
                  <a:lnTo>
                    <a:pt x="847" y="0"/>
                  </a:lnTo>
                  <a:lnTo>
                    <a:pt x="858" y="9"/>
                  </a:lnTo>
                  <a:lnTo>
                    <a:pt x="868" y="45"/>
                  </a:lnTo>
                  <a:lnTo>
                    <a:pt x="890" y="90"/>
                  </a:lnTo>
                  <a:lnTo>
                    <a:pt x="900" y="161"/>
                  </a:lnTo>
                  <a:lnTo>
                    <a:pt x="922" y="224"/>
                  </a:lnTo>
                  <a:lnTo>
                    <a:pt x="932" y="304"/>
                  </a:lnTo>
                  <a:lnTo>
                    <a:pt x="953" y="376"/>
                  </a:lnTo>
                  <a:lnTo>
                    <a:pt x="964" y="448"/>
                  </a:lnTo>
                  <a:lnTo>
                    <a:pt x="986" y="510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66120" y="1893960"/>
              <a:ext cx="1119240" cy="995760"/>
            </a:xfrm>
            <a:custGeom>
              <a:avLst/>
              <a:gdLst/>
              <a:ahLst/>
              <a:rect l="l" t="t" r="r" b="b"/>
              <a:pathLst>
                <a:path w="700" h="591">
                  <a:moveTo>
                    <a:pt x="0" y="0"/>
                  </a:moveTo>
                  <a:lnTo>
                    <a:pt x="9" y="63"/>
                  </a:lnTo>
                  <a:lnTo>
                    <a:pt x="20" y="116"/>
                  </a:lnTo>
                  <a:lnTo>
                    <a:pt x="42" y="161"/>
                  </a:lnTo>
                  <a:lnTo>
                    <a:pt x="52" y="206"/>
                  </a:lnTo>
                  <a:lnTo>
                    <a:pt x="73" y="242"/>
                  </a:lnTo>
                  <a:lnTo>
                    <a:pt x="84" y="277"/>
                  </a:lnTo>
                  <a:lnTo>
                    <a:pt x="105" y="304"/>
                  </a:lnTo>
                  <a:lnTo>
                    <a:pt x="115" y="331"/>
                  </a:lnTo>
                  <a:lnTo>
                    <a:pt x="137" y="358"/>
                  </a:lnTo>
                  <a:lnTo>
                    <a:pt x="147" y="376"/>
                  </a:lnTo>
                  <a:lnTo>
                    <a:pt x="158" y="403"/>
                  </a:lnTo>
                  <a:lnTo>
                    <a:pt x="179" y="421"/>
                  </a:lnTo>
                  <a:lnTo>
                    <a:pt x="190" y="429"/>
                  </a:lnTo>
                  <a:lnTo>
                    <a:pt x="211" y="447"/>
                  </a:lnTo>
                  <a:lnTo>
                    <a:pt x="222" y="456"/>
                  </a:lnTo>
                  <a:lnTo>
                    <a:pt x="242" y="465"/>
                  </a:lnTo>
                  <a:lnTo>
                    <a:pt x="253" y="483"/>
                  </a:lnTo>
                  <a:lnTo>
                    <a:pt x="275" y="492"/>
                  </a:lnTo>
                  <a:lnTo>
                    <a:pt x="286" y="501"/>
                  </a:lnTo>
                  <a:lnTo>
                    <a:pt x="295" y="510"/>
                  </a:lnTo>
                  <a:lnTo>
                    <a:pt x="317" y="510"/>
                  </a:lnTo>
                  <a:lnTo>
                    <a:pt x="328" y="519"/>
                  </a:lnTo>
                  <a:lnTo>
                    <a:pt x="348" y="528"/>
                  </a:lnTo>
                  <a:lnTo>
                    <a:pt x="359" y="528"/>
                  </a:lnTo>
                  <a:lnTo>
                    <a:pt x="381" y="537"/>
                  </a:lnTo>
                  <a:lnTo>
                    <a:pt x="391" y="537"/>
                  </a:lnTo>
                  <a:lnTo>
                    <a:pt x="412" y="546"/>
                  </a:lnTo>
                  <a:lnTo>
                    <a:pt x="423" y="546"/>
                  </a:lnTo>
                  <a:lnTo>
                    <a:pt x="434" y="555"/>
                  </a:lnTo>
                  <a:lnTo>
                    <a:pt x="455" y="555"/>
                  </a:lnTo>
                  <a:lnTo>
                    <a:pt x="466" y="564"/>
                  </a:lnTo>
                  <a:lnTo>
                    <a:pt x="486" y="564"/>
                  </a:lnTo>
                  <a:lnTo>
                    <a:pt x="497" y="564"/>
                  </a:lnTo>
                  <a:lnTo>
                    <a:pt x="519" y="564"/>
                  </a:lnTo>
                  <a:lnTo>
                    <a:pt x="529" y="573"/>
                  </a:lnTo>
                  <a:lnTo>
                    <a:pt x="550" y="573"/>
                  </a:lnTo>
                  <a:lnTo>
                    <a:pt x="561" y="573"/>
                  </a:lnTo>
                  <a:lnTo>
                    <a:pt x="572" y="573"/>
                  </a:lnTo>
                  <a:lnTo>
                    <a:pt x="592" y="582"/>
                  </a:lnTo>
                  <a:lnTo>
                    <a:pt x="603" y="582"/>
                  </a:lnTo>
                  <a:lnTo>
                    <a:pt x="625" y="582"/>
                  </a:lnTo>
                  <a:lnTo>
                    <a:pt x="635" y="582"/>
                  </a:lnTo>
                  <a:lnTo>
                    <a:pt x="656" y="582"/>
                  </a:lnTo>
                  <a:lnTo>
                    <a:pt x="667" y="590"/>
                  </a:lnTo>
                  <a:lnTo>
                    <a:pt x="688" y="590"/>
                  </a:lnTo>
                  <a:lnTo>
                    <a:pt x="699" y="590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107760" y="1034640"/>
              <a:ext cx="2458800" cy="1841760"/>
            </a:xfrm>
            <a:custGeom>
              <a:avLst/>
              <a:gdLst/>
              <a:ahLst/>
              <a:rect l="l" t="t" r="r" b="b"/>
              <a:pathLst>
                <a:path w="1538" h="1093">
                  <a:moveTo>
                    <a:pt x="0" y="1092"/>
                  </a:moveTo>
                  <a:lnTo>
                    <a:pt x="382" y="975"/>
                  </a:lnTo>
                  <a:lnTo>
                    <a:pt x="773" y="0"/>
                  </a:lnTo>
                  <a:lnTo>
                    <a:pt x="1154" y="975"/>
                  </a:lnTo>
                  <a:lnTo>
                    <a:pt x="1537" y="1092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87480" y="703800"/>
              <a:ext cx="1849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rpolación Lineal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161800" y="29487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61800" y="103464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216180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483840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161800" y="103464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838400" y="29487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161800" y="29487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216180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61800" y="29487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227988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27988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059920" y="2960640"/>
              <a:ext cx="355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349884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9884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47280" y="29606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471852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71852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569480" y="29606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161800" y="25124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4802760" y="25124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891440" y="22766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161800" y="17744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802760" y="17744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03160" y="1536840"/>
              <a:ext cx="451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61800" y="10346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802760" y="10346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91440" y="80028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161800" y="29487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61800" y="103464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216180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483840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61800" y="29487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38400" y="103464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11480" y="245160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79880" y="2391120"/>
              <a:ext cx="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211480" y="2391120"/>
              <a:ext cx="13572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2211120" y="2391120"/>
              <a:ext cx="13572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22040" y="2301840"/>
              <a:ext cx="13428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89000" y="224100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822040" y="2241000"/>
              <a:ext cx="13428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2821680" y="2241000"/>
              <a:ext cx="13428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31160" y="103464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98840" y="975240"/>
              <a:ext cx="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431160" y="97524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3430800" y="97524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40280" y="2301840"/>
              <a:ext cx="1375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109400" y="224100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40280" y="2241000"/>
              <a:ext cx="1375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4040280" y="2241000"/>
              <a:ext cx="1375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51200" y="245160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718520" y="2391120"/>
              <a:ext cx="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51200" y="2391120"/>
              <a:ext cx="13572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4650840" y="2391120"/>
              <a:ext cx="13572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61800" y="1034640"/>
              <a:ext cx="1558800" cy="1433520"/>
            </a:xfrm>
            <a:custGeom>
              <a:avLst/>
              <a:gdLst/>
              <a:ahLst/>
              <a:rect l="l" t="t" r="r" b="b"/>
              <a:pathLst>
                <a:path w="975" h="851">
                  <a:moveTo>
                    <a:pt x="0" y="850"/>
                  </a:moveTo>
                  <a:lnTo>
                    <a:pt x="9" y="841"/>
                  </a:lnTo>
                  <a:lnTo>
                    <a:pt x="31" y="841"/>
                  </a:lnTo>
                  <a:lnTo>
                    <a:pt x="42" y="841"/>
                  </a:lnTo>
                  <a:lnTo>
                    <a:pt x="62" y="841"/>
                  </a:lnTo>
                  <a:lnTo>
                    <a:pt x="73" y="841"/>
                  </a:lnTo>
                  <a:lnTo>
                    <a:pt x="95" y="841"/>
                  </a:lnTo>
                  <a:lnTo>
                    <a:pt x="106" y="841"/>
                  </a:lnTo>
                  <a:lnTo>
                    <a:pt x="115" y="832"/>
                  </a:lnTo>
                  <a:lnTo>
                    <a:pt x="137" y="832"/>
                  </a:lnTo>
                  <a:lnTo>
                    <a:pt x="148" y="832"/>
                  </a:lnTo>
                  <a:lnTo>
                    <a:pt x="169" y="832"/>
                  </a:lnTo>
                  <a:lnTo>
                    <a:pt x="179" y="832"/>
                  </a:lnTo>
                  <a:lnTo>
                    <a:pt x="201" y="823"/>
                  </a:lnTo>
                  <a:lnTo>
                    <a:pt x="211" y="823"/>
                  </a:lnTo>
                  <a:lnTo>
                    <a:pt x="232" y="823"/>
                  </a:lnTo>
                  <a:lnTo>
                    <a:pt x="243" y="823"/>
                  </a:lnTo>
                  <a:lnTo>
                    <a:pt x="253" y="814"/>
                  </a:lnTo>
                  <a:lnTo>
                    <a:pt x="275" y="814"/>
                  </a:lnTo>
                  <a:lnTo>
                    <a:pt x="286" y="814"/>
                  </a:lnTo>
                  <a:lnTo>
                    <a:pt x="306" y="805"/>
                  </a:lnTo>
                  <a:lnTo>
                    <a:pt x="317" y="805"/>
                  </a:lnTo>
                  <a:lnTo>
                    <a:pt x="339" y="796"/>
                  </a:lnTo>
                  <a:lnTo>
                    <a:pt x="348" y="796"/>
                  </a:lnTo>
                  <a:lnTo>
                    <a:pt x="359" y="787"/>
                  </a:lnTo>
                  <a:lnTo>
                    <a:pt x="381" y="787"/>
                  </a:lnTo>
                  <a:lnTo>
                    <a:pt x="392" y="779"/>
                  </a:lnTo>
                  <a:lnTo>
                    <a:pt x="412" y="779"/>
                  </a:lnTo>
                  <a:lnTo>
                    <a:pt x="423" y="770"/>
                  </a:lnTo>
                  <a:lnTo>
                    <a:pt x="444" y="761"/>
                  </a:lnTo>
                  <a:lnTo>
                    <a:pt x="455" y="752"/>
                  </a:lnTo>
                  <a:lnTo>
                    <a:pt x="476" y="743"/>
                  </a:lnTo>
                  <a:lnTo>
                    <a:pt x="487" y="734"/>
                  </a:lnTo>
                  <a:lnTo>
                    <a:pt x="497" y="725"/>
                  </a:lnTo>
                  <a:lnTo>
                    <a:pt x="518" y="716"/>
                  </a:lnTo>
                  <a:lnTo>
                    <a:pt x="529" y="698"/>
                  </a:lnTo>
                  <a:lnTo>
                    <a:pt x="550" y="689"/>
                  </a:lnTo>
                  <a:lnTo>
                    <a:pt x="561" y="671"/>
                  </a:lnTo>
                  <a:lnTo>
                    <a:pt x="582" y="653"/>
                  </a:lnTo>
                  <a:lnTo>
                    <a:pt x="592" y="626"/>
                  </a:lnTo>
                  <a:lnTo>
                    <a:pt x="603" y="609"/>
                  </a:lnTo>
                  <a:lnTo>
                    <a:pt x="625" y="582"/>
                  </a:lnTo>
                  <a:lnTo>
                    <a:pt x="635" y="546"/>
                  </a:lnTo>
                  <a:lnTo>
                    <a:pt x="656" y="519"/>
                  </a:lnTo>
                  <a:lnTo>
                    <a:pt x="667" y="474"/>
                  </a:lnTo>
                  <a:lnTo>
                    <a:pt x="687" y="439"/>
                  </a:lnTo>
                  <a:lnTo>
                    <a:pt x="698" y="394"/>
                  </a:lnTo>
                  <a:lnTo>
                    <a:pt x="720" y="340"/>
                  </a:lnTo>
                  <a:lnTo>
                    <a:pt x="731" y="287"/>
                  </a:lnTo>
                  <a:lnTo>
                    <a:pt x="741" y="233"/>
                  </a:lnTo>
                  <a:lnTo>
                    <a:pt x="762" y="179"/>
                  </a:lnTo>
                  <a:lnTo>
                    <a:pt x="773" y="117"/>
                  </a:lnTo>
                  <a:lnTo>
                    <a:pt x="794" y="72"/>
                  </a:lnTo>
                  <a:lnTo>
                    <a:pt x="804" y="36"/>
                  </a:lnTo>
                  <a:lnTo>
                    <a:pt x="826" y="9"/>
                  </a:lnTo>
                  <a:lnTo>
                    <a:pt x="836" y="0"/>
                  </a:lnTo>
                  <a:lnTo>
                    <a:pt x="847" y="9"/>
                  </a:lnTo>
                  <a:lnTo>
                    <a:pt x="868" y="36"/>
                  </a:lnTo>
                  <a:lnTo>
                    <a:pt x="878" y="72"/>
                  </a:lnTo>
                  <a:lnTo>
                    <a:pt x="900" y="117"/>
                  </a:lnTo>
                  <a:lnTo>
                    <a:pt x="911" y="179"/>
                  </a:lnTo>
                  <a:lnTo>
                    <a:pt x="931" y="233"/>
                  </a:lnTo>
                  <a:lnTo>
                    <a:pt x="942" y="287"/>
                  </a:lnTo>
                  <a:lnTo>
                    <a:pt x="953" y="340"/>
                  </a:lnTo>
                  <a:lnTo>
                    <a:pt x="974" y="394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9160" y="1698480"/>
              <a:ext cx="1120680" cy="769680"/>
            </a:xfrm>
            <a:custGeom>
              <a:avLst/>
              <a:gdLst/>
              <a:ahLst/>
              <a:rect l="l" t="t" r="r" b="b"/>
              <a:pathLst>
                <a:path w="701" h="457">
                  <a:moveTo>
                    <a:pt x="0" y="0"/>
                  </a:moveTo>
                  <a:lnTo>
                    <a:pt x="10" y="45"/>
                  </a:lnTo>
                  <a:lnTo>
                    <a:pt x="32" y="80"/>
                  </a:lnTo>
                  <a:lnTo>
                    <a:pt x="43" y="125"/>
                  </a:lnTo>
                  <a:lnTo>
                    <a:pt x="63" y="152"/>
                  </a:lnTo>
                  <a:lnTo>
                    <a:pt x="74" y="188"/>
                  </a:lnTo>
                  <a:lnTo>
                    <a:pt x="95" y="215"/>
                  </a:lnTo>
                  <a:lnTo>
                    <a:pt x="106" y="232"/>
                  </a:lnTo>
                  <a:lnTo>
                    <a:pt x="117" y="259"/>
                  </a:lnTo>
                  <a:lnTo>
                    <a:pt x="138" y="277"/>
                  </a:lnTo>
                  <a:lnTo>
                    <a:pt x="148" y="295"/>
                  </a:lnTo>
                  <a:lnTo>
                    <a:pt x="170" y="304"/>
                  </a:lnTo>
                  <a:lnTo>
                    <a:pt x="180" y="322"/>
                  </a:lnTo>
                  <a:lnTo>
                    <a:pt x="201" y="331"/>
                  </a:lnTo>
                  <a:lnTo>
                    <a:pt x="212" y="340"/>
                  </a:lnTo>
                  <a:lnTo>
                    <a:pt x="223" y="349"/>
                  </a:lnTo>
                  <a:lnTo>
                    <a:pt x="243" y="358"/>
                  </a:lnTo>
                  <a:lnTo>
                    <a:pt x="254" y="367"/>
                  </a:lnTo>
                  <a:lnTo>
                    <a:pt x="276" y="376"/>
                  </a:lnTo>
                  <a:lnTo>
                    <a:pt x="287" y="385"/>
                  </a:lnTo>
                  <a:lnTo>
                    <a:pt x="307" y="385"/>
                  </a:lnTo>
                  <a:lnTo>
                    <a:pt x="318" y="393"/>
                  </a:lnTo>
                  <a:lnTo>
                    <a:pt x="339" y="393"/>
                  </a:lnTo>
                  <a:lnTo>
                    <a:pt x="350" y="402"/>
                  </a:lnTo>
                  <a:lnTo>
                    <a:pt x="360" y="402"/>
                  </a:lnTo>
                  <a:lnTo>
                    <a:pt x="382" y="411"/>
                  </a:lnTo>
                  <a:lnTo>
                    <a:pt x="392" y="411"/>
                  </a:lnTo>
                  <a:lnTo>
                    <a:pt x="413" y="420"/>
                  </a:lnTo>
                  <a:lnTo>
                    <a:pt x="424" y="420"/>
                  </a:lnTo>
                  <a:lnTo>
                    <a:pt x="445" y="420"/>
                  </a:lnTo>
                  <a:lnTo>
                    <a:pt x="456" y="429"/>
                  </a:lnTo>
                  <a:lnTo>
                    <a:pt x="467" y="429"/>
                  </a:lnTo>
                  <a:lnTo>
                    <a:pt x="487" y="429"/>
                  </a:lnTo>
                  <a:lnTo>
                    <a:pt x="498" y="429"/>
                  </a:lnTo>
                  <a:lnTo>
                    <a:pt x="520" y="438"/>
                  </a:lnTo>
                  <a:lnTo>
                    <a:pt x="529" y="438"/>
                  </a:lnTo>
                  <a:lnTo>
                    <a:pt x="551" y="438"/>
                  </a:lnTo>
                  <a:lnTo>
                    <a:pt x="562" y="438"/>
                  </a:lnTo>
                  <a:lnTo>
                    <a:pt x="582" y="438"/>
                  </a:lnTo>
                  <a:lnTo>
                    <a:pt x="593" y="447"/>
                  </a:lnTo>
                  <a:lnTo>
                    <a:pt x="604" y="447"/>
                  </a:lnTo>
                  <a:lnTo>
                    <a:pt x="625" y="447"/>
                  </a:lnTo>
                  <a:lnTo>
                    <a:pt x="636" y="447"/>
                  </a:lnTo>
                  <a:lnTo>
                    <a:pt x="657" y="447"/>
                  </a:lnTo>
                  <a:lnTo>
                    <a:pt x="668" y="447"/>
                  </a:lnTo>
                  <a:lnTo>
                    <a:pt x="689" y="447"/>
                  </a:lnTo>
                  <a:lnTo>
                    <a:pt x="700" y="456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161800" y="1034640"/>
              <a:ext cx="1558800" cy="1841760"/>
            </a:xfrm>
            <a:custGeom>
              <a:avLst/>
              <a:gdLst/>
              <a:ahLst/>
              <a:rect l="l" t="t" r="r" b="b"/>
              <a:pathLst>
                <a:path w="975" h="1093">
                  <a:moveTo>
                    <a:pt x="0" y="492"/>
                  </a:moveTo>
                  <a:lnTo>
                    <a:pt x="9" y="573"/>
                  </a:lnTo>
                  <a:lnTo>
                    <a:pt x="31" y="653"/>
                  </a:lnTo>
                  <a:lnTo>
                    <a:pt x="42" y="725"/>
                  </a:lnTo>
                  <a:lnTo>
                    <a:pt x="62" y="787"/>
                  </a:lnTo>
                  <a:lnTo>
                    <a:pt x="73" y="841"/>
                  </a:lnTo>
                  <a:lnTo>
                    <a:pt x="95" y="895"/>
                  </a:lnTo>
                  <a:lnTo>
                    <a:pt x="106" y="931"/>
                  </a:lnTo>
                  <a:lnTo>
                    <a:pt x="115" y="975"/>
                  </a:lnTo>
                  <a:lnTo>
                    <a:pt x="137" y="1002"/>
                  </a:lnTo>
                  <a:lnTo>
                    <a:pt x="148" y="1029"/>
                  </a:lnTo>
                  <a:lnTo>
                    <a:pt x="169" y="1056"/>
                  </a:lnTo>
                  <a:lnTo>
                    <a:pt x="179" y="1074"/>
                  </a:lnTo>
                  <a:lnTo>
                    <a:pt x="201" y="1083"/>
                  </a:lnTo>
                  <a:lnTo>
                    <a:pt x="211" y="1092"/>
                  </a:lnTo>
                  <a:lnTo>
                    <a:pt x="232" y="1092"/>
                  </a:lnTo>
                  <a:lnTo>
                    <a:pt x="243" y="1092"/>
                  </a:lnTo>
                  <a:lnTo>
                    <a:pt x="253" y="1092"/>
                  </a:lnTo>
                  <a:lnTo>
                    <a:pt x="275" y="1083"/>
                  </a:lnTo>
                  <a:lnTo>
                    <a:pt x="286" y="1065"/>
                  </a:lnTo>
                  <a:lnTo>
                    <a:pt x="306" y="1047"/>
                  </a:lnTo>
                  <a:lnTo>
                    <a:pt x="317" y="1029"/>
                  </a:lnTo>
                  <a:lnTo>
                    <a:pt x="339" y="1011"/>
                  </a:lnTo>
                  <a:lnTo>
                    <a:pt x="348" y="984"/>
                  </a:lnTo>
                  <a:lnTo>
                    <a:pt x="359" y="957"/>
                  </a:lnTo>
                  <a:lnTo>
                    <a:pt x="381" y="931"/>
                  </a:lnTo>
                  <a:lnTo>
                    <a:pt x="392" y="895"/>
                  </a:lnTo>
                  <a:lnTo>
                    <a:pt x="412" y="868"/>
                  </a:lnTo>
                  <a:lnTo>
                    <a:pt x="423" y="832"/>
                  </a:lnTo>
                  <a:lnTo>
                    <a:pt x="444" y="787"/>
                  </a:lnTo>
                  <a:lnTo>
                    <a:pt x="455" y="752"/>
                  </a:lnTo>
                  <a:lnTo>
                    <a:pt x="476" y="716"/>
                  </a:lnTo>
                  <a:lnTo>
                    <a:pt x="487" y="671"/>
                  </a:lnTo>
                  <a:lnTo>
                    <a:pt x="497" y="635"/>
                  </a:lnTo>
                  <a:lnTo>
                    <a:pt x="518" y="591"/>
                  </a:lnTo>
                  <a:lnTo>
                    <a:pt x="529" y="555"/>
                  </a:lnTo>
                  <a:lnTo>
                    <a:pt x="550" y="510"/>
                  </a:lnTo>
                  <a:lnTo>
                    <a:pt x="561" y="465"/>
                  </a:lnTo>
                  <a:lnTo>
                    <a:pt x="582" y="430"/>
                  </a:lnTo>
                  <a:lnTo>
                    <a:pt x="592" y="385"/>
                  </a:lnTo>
                  <a:lnTo>
                    <a:pt x="603" y="349"/>
                  </a:lnTo>
                  <a:lnTo>
                    <a:pt x="625" y="313"/>
                  </a:lnTo>
                  <a:lnTo>
                    <a:pt x="635" y="278"/>
                  </a:lnTo>
                  <a:lnTo>
                    <a:pt x="656" y="242"/>
                  </a:lnTo>
                  <a:lnTo>
                    <a:pt x="667" y="206"/>
                  </a:lnTo>
                  <a:lnTo>
                    <a:pt x="687" y="170"/>
                  </a:lnTo>
                  <a:lnTo>
                    <a:pt x="698" y="143"/>
                  </a:lnTo>
                  <a:lnTo>
                    <a:pt x="720" y="117"/>
                  </a:lnTo>
                  <a:lnTo>
                    <a:pt x="731" y="90"/>
                  </a:lnTo>
                  <a:lnTo>
                    <a:pt x="741" y="72"/>
                  </a:lnTo>
                  <a:lnTo>
                    <a:pt x="762" y="45"/>
                  </a:lnTo>
                  <a:lnTo>
                    <a:pt x="773" y="27"/>
                  </a:lnTo>
                  <a:lnTo>
                    <a:pt x="794" y="18"/>
                  </a:lnTo>
                  <a:lnTo>
                    <a:pt x="804" y="9"/>
                  </a:lnTo>
                  <a:lnTo>
                    <a:pt x="826" y="0"/>
                  </a:lnTo>
                  <a:lnTo>
                    <a:pt x="836" y="0"/>
                  </a:lnTo>
                  <a:lnTo>
                    <a:pt x="847" y="0"/>
                  </a:lnTo>
                  <a:lnTo>
                    <a:pt x="868" y="9"/>
                  </a:lnTo>
                  <a:lnTo>
                    <a:pt x="878" y="18"/>
                  </a:lnTo>
                  <a:lnTo>
                    <a:pt x="900" y="27"/>
                  </a:lnTo>
                  <a:lnTo>
                    <a:pt x="911" y="45"/>
                  </a:lnTo>
                  <a:lnTo>
                    <a:pt x="931" y="72"/>
                  </a:lnTo>
                  <a:lnTo>
                    <a:pt x="942" y="90"/>
                  </a:lnTo>
                  <a:lnTo>
                    <a:pt x="953" y="117"/>
                  </a:lnTo>
                  <a:lnTo>
                    <a:pt x="974" y="143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9160" y="1275120"/>
              <a:ext cx="1120680" cy="1600920"/>
            </a:xfrm>
            <a:custGeom>
              <a:avLst/>
              <a:gdLst/>
              <a:ahLst/>
              <a:rect l="l" t="t" r="r" b="b"/>
              <a:pathLst>
                <a:path w="701" h="950">
                  <a:moveTo>
                    <a:pt x="0" y="0"/>
                  </a:moveTo>
                  <a:lnTo>
                    <a:pt x="10" y="27"/>
                  </a:lnTo>
                  <a:lnTo>
                    <a:pt x="32" y="63"/>
                  </a:lnTo>
                  <a:lnTo>
                    <a:pt x="43" y="99"/>
                  </a:lnTo>
                  <a:lnTo>
                    <a:pt x="63" y="135"/>
                  </a:lnTo>
                  <a:lnTo>
                    <a:pt x="74" y="170"/>
                  </a:lnTo>
                  <a:lnTo>
                    <a:pt x="95" y="206"/>
                  </a:lnTo>
                  <a:lnTo>
                    <a:pt x="106" y="242"/>
                  </a:lnTo>
                  <a:lnTo>
                    <a:pt x="117" y="287"/>
                  </a:lnTo>
                  <a:lnTo>
                    <a:pt x="138" y="322"/>
                  </a:lnTo>
                  <a:lnTo>
                    <a:pt x="148" y="367"/>
                  </a:lnTo>
                  <a:lnTo>
                    <a:pt x="170" y="412"/>
                  </a:lnTo>
                  <a:lnTo>
                    <a:pt x="180" y="448"/>
                  </a:lnTo>
                  <a:lnTo>
                    <a:pt x="201" y="492"/>
                  </a:lnTo>
                  <a:lnTo>
                    <a:pt x="212" y="528"/>
                  </a:lnTo>
                  <a:lnTo>
                    <a:pt x="223" y="573"/>
                  </a:lnTo>
                  <a:lnTo>
                    <a:pt x="243" y="609"/>
                  </a:lnTo>
                  <a:lnTo>
                    <a:pt x="254" y="644"/>
                  </a:lnTo>
                  <a:lnTo>
                    <a:pt x="276" y="689"/>
                  </a:lnTo>
                  <a:lnTo>
                    <a:pt x="287" y="725"/>
                  </a:lnTo>
                  <a:lnTo>
                    <a:pt x="307" y="752"/>
                  </a:lnTo>
                  <a:lnTo>
                    <a:pt x="318" y="788"/>
                  </a:lnTo>
                  <a:lnTo>
                    <a:pt x="339" y="814"/>
                  </a:lnTo>
                  <a:lnTo>
                    <a:pt x="350" y="841"/>
                  </a:lnTo>
                  <a:lnTo>
                    <a:pt x="360" y="868"/>
                  </a:lnTo>
                  <a:lnTo>
                    <a:pt x="382" y="886"/>
                  </a:lnTo>
                  <a:lnTo>
                    <a:pt x="392" y="904"/>
                  </a:lnTo>
                  <a:lnTo>
                    <a:pt x="413" y="922"/>
                  </a:lnTo>
                  <a:lnTo>
                    <a:pt x="424" y="940"/>
                  </a:lnTo>
                  <a:lnTo>
                    <a:pt x="445" y="949"/>
                  </a:lnTo>
                  <a:lnTo>
                    <a:pt x="456" y="949"/>
                  </a:lnTo>
                  <a:lnTo>
                    <a:pt x="467" y="949"/>
                  </a:lnTo>
                  <a:lnTo>
                    <a:pt x="487" y="949"/>
                  </a:lnTo>
                  <a:lnTo>
                    <a:pt x="498" y="940"/>
                  </a:lnTo>
                  <a:lnTo>
                    <a:pt x="520" y="931"/>
                  </a:lnTo>
                  <a:lnTo>
                    <a:pt x="529" y="913"/>
                  </a:lnTo>
                  <a:lnTo>
                    <a:pt x="551" y="886"/>
                  </a:lnTo>
                  <a:lnTo>
                    <a:pt x="562" y="859"/>
                  </a:lnTo>
                  <a:lnTo>
                    <a:pt x="582" y="832"/>
                  </a:lnTo>
                  <a:lnTo>
                    <a:pt x="593" y="788"/>
                  </a:lnTo>
                  <a:lnTo>
                    <a:pt x="604" y="752"/>
                  </a:lnTo>
                  <a:lnTo>
                    <a:pt x="625" y="698"/>
                  </a:lnTo>
                  <a:lnTo>
                    <a:pt x="636" y="644"/>
                  </a:lnTo>
                  <a:lnTo>
                    <a:pt x="657" y="582"/>
                  </a:lnTo>
                  <a:lnTo>
                    <a:pt x="668" y="510"/>
                  </a:lnTo>
                  <a:lnTo>
                    <a:pt x="689" y="430"/>
                  </a:lnTo>
                  <a:lnTo>
                    <a:pt x="700" y="349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45280" y="703800"/>
              <a:ext cx="1797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Spline de MATLAB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066680" y="1447920"/>
            <a:ext cx="8458200" cy="4572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29" name=""/>
          <p:cNvGraphicFramePr/>
          <p:nvPr/>
        </p:nvGraphicFramePr>
        <p:xfrm>
          <a:off x="2057400" y="380880"/>
          <a:ext cx="6248520" cy="61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80880"/>
                    <a:ext cx="6248520" cy="61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304920"/>
            <a:ext cx="89708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on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600200"/>
            <a:ext cx="8420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Polinomi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olinomios Osculadores: Interpolación de Hermi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Racional: Aproximaciones de Pa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segmentaria: Splin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t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304920"/>
            <a:ext cx="89708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Ajust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1447920"/>
            <a:ext cx="842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olinomios de Tayl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ínimos Cuadra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inimización de norm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Aproximación R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eries de Fouri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Bezi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-Splin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362320" y="2438280"/>
            <a:ext cx="5486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plines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1447920"/>
            <a:ext cx="8458200" cy="4572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447920" y="4572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Polinómica Segmentari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182880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imitaciones de la interpolación polinóm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Grado del polinomio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ácter de la función a interpol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Alternativa propuesta: Splin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Numéricamente estab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atrices disper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gradable a la vist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380880"/>
            <a:ext cx="897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Polinomica Segmentaria: Splin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3160" y="2209680"/>
            <a:ext cx="8420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Segmentar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Segmentaria Line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Segmentaria Cúb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ondiciones Natur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ondiciones sobre la deriva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73160" y="4572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Segmentaria Lineal: Función de Rung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1676520"/>
            <a:ext cx="8159760" cy="417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65680" y="257976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82630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6568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63080" y="56023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6568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66568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6568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2760" y="5565600"/>
            <a:ext cx="302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96600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6600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0652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26308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6308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0540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65680" y="56023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218440" y="56023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90640" y="54594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65680" y="529920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218440" y="529920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99840" y="51577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65680" y="49975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8218440" y="49975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840" y="485460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65680" y="46958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8218440" y="46958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99840" y="45529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65680" y="43927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8218440" y="43927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99840" y="42512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65680" y="40910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218440" y="40910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99840" y="39481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65680" y="37879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218440" y="37879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99840" y="36464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65680" y="34862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218440" y="34862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99840" y="33433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65680" y="31845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8218440" y="31845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99840" y="30416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65680" y="28814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218440" y="28814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99840" y="273996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65680" y="25797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218440" y="25797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90640" y="243684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65680" y="257976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82630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6568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3080" y="25797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07000" y="54864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65680" y="5451480"/>
            <a:ext cx="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0700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60700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64360" y="518472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51483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64360" y="5148360"/>
            <a:ext cx="1159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64360" y="5148360"/>
            <a:ext cx="1159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07320" y="257976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66000" y="254304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07320" y="254304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907320" y="254304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61440" y="518472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0120" y="51483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61440" y="51483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561440" y="51483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05840" y="54864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63080" y="5451480"/>
            <a:ext cx="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0584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20584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65680" y="2579760"/>
            <a:ext cx="2598840" cy="2908080"/>
          </a:xfrm>
          <a:custGeom>
            <a:avLst/>
            <a:gdLst/>
            <a:ahLst/>
            <a:rect l="l" t="t" r="r" b="b"/>
            <a:pathLst>
              <a:path w="1637" h="1832">
                <a:moveTo>
                  <a:pt x="0" y="1831"/>
                </a:moveTo>
                <a:lnTo>
                  <a:pt x="413" y="1641"/>
                </a:lnTo>
                <a:lnTo>
                  <a:pt x="818" y="0"/>
                </a:lnTo>
                <a:lnTo>
                  <a:pt x="1231" y="1641"/>
                </a:lnTo>
                <a:lnTo>
                  <a:pt x="1636" y="1831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65680" y="2579760"/>
            <a:ext cx="1665360" cy="2908080"/>
          </a:xfrm>
          <a:custGeom>
            <a:avLst/>
            <a:gdLst/>
            <a:ahLst/>
            <a:rect l="l" t="t" r="r" b="b"/>
            <a:pathLst>
              <a:path w="1049" h="1832">
                <a:moveTo>
                  <a:pt x="0" y="1831"/>
                </a:moveTo>
                <a:lnTo>
                  <a:pt x="18" y="1825"/>
                </a:lnTo>
                <a:lnTo>
                  <a:pt x="36" y="1825"/>
                </a:lnTo>
                <a:lnTo>
                  <a:pt x="46" y="1820"/>
                </a:lnTo>
                <a:lnTo>
                  <a:pt x="64" y="1820"/>
                </a:lnTo>
                <a:lnTo>
                  <a:pt x="83" y="1814"/>
                </a:lnTo>
                <a:lnTo>
                  <a:pt x="101" y="1809"/>
                </a:lnTo>
                <a:lnTo>
                  <a:pt x="110" y="1809"/>
                </a:lnTo>
                <a:lnTo>
                  <a:pt x="128" y="1803"/>
                </a:lnTo>
                <a:lnTo>
                  <a:pt x="147" y="1797"/>
                </a:lnTo>
                <a:lnTo>
                  <a:pt x="165" y="1792"/>
                </a:lnTo>
                <a:lnTo>
                  <a:pt x="184" y="1786"/>
                </a:lnTo>
                <a:lnTo>
                  <a:pt x="193" y="1781"/>
                </a:lnTo>
                <a:lnTo>
                  <a:pt x="212" y="1775"/>
                </a:lnTo>
                <a:lnTo>
                  <a:pt x="229" y="1769"/>
                </a:lnTo>
                <a:lnTo>
                  <a:pt x="247" y="1758"/>
                </a:lnTo>
                <a:lnTo>
                  <a:pt x="257" y="1753"/>
                </a:lnTo>
                <a:lnTo>
                  <a:pt x="276" y="1741"/>
                </a:lnTo>
                <a:lnTo>
                  <a:pt x="294" y="1736"/>
                </a:lnTo>
                <a:lnTo>
                  <a:pt x="312" y="1725"/>
                </a:lnTo>
                <a:lnTo>
                  <a:pt x="331" y="1713"/>
                </a:lnTo>
                <a:lnTo>
                  <a:pt x="339" y="1702"/>
                </a:lnTo>
                <a:lnTo>
                  <a:pt x="358" y="1691"/>
                </a:lnTo>
                <a:lnTo>
                  <a:pt x="376" y="1674"/>
                </a:lnTo>
                <a:lnTo>
                  <a:pt x="395" y="1657"/>
                </a:lnTo>
                <a:lnTo>
                  <a:pt x="413" y="1641"/>
                </a:lnTo>
                <a:lnTo>
                  <a:pt x="423" y="1624"/>
                </a:lnTo>
                <a:lnTo>
                  <a:pt x="441" y="1601"/>
                </a:lnTo>
                <a:lnTo>
                  <a:pt x="460" y="1579"/>
                </a:lnTo>
                <a:lnTo>
                  <a:pt x="478" y="1551"/>
                </a:lnTo>
                <a:lnTo>
                  <a:pt x="487" y="1523"/>
                </a:lnTo>
                <a:lnTo>
                  <a:pt x="505" y="1489"/>
                </a:lnTo>
                <a:lnTo>
                  <a:pt x="524" y="1456"/>
                </a:lnTo>
                <a:lnTo>
                  <a:pt x="542" y="1417"/>
                </a:lnTo>
                <a:lnTo>
                  <a:pt x="560" y="1366"/>
                </a:lnTo>
                <a:lnTo>
                  <a:pt x="569" y="1316"/>
                </a:lnTo>
                <a:lnTo>
                  <a:pt x="587" y="1260"/>
                </a:lnTo>
                <a:lnTo>
                  <a:pt x="606" y="1198"/>
                </a:lnTo>
                <a:lnTo>
                  <a:pt x="624" y="1125"/>
                </a:lnTo>
                <a:lnTo>
                  <a:pt x="634" y="1041"/>
                </a:lnTo>
                <a:lnTo>
                  <a:pt x="652" y="952"/>
                </a:lnTo>
                <a:lnTo>
                  <a:pt x="671" y="851"/>
                </a:lnTo>
                <a:lnTo>
                  <a:pt x="689" y="745"/>
                </a:lnTo>
                <a:lnTo>
                  <a:pt x="708" y="627"/>
                </a:lnTo>
                <a:lnTo>
                  <a:pt x="716" y="504"/>
                </a:lnTo>
                <a:lnTo>
                  <a:pt x="735" y="381"/>
                </a:lnTo>
                <a:lnTo>
                  <a:pt x="753" y="263"/>
                </a:lnTo>
                <a:lnTo>
                  <a:pt x="771" y="157"/>
                </a:lnTo>
                <a:lnTo>
                  <a:pt x="781" y="73"/>
                </a:lnTo>
                <a:lnTo>
                  <a:pt x="800" y="17"/>
                </a:lnTo>
                <a:lnTo>
                  <a:pt x="818" y="0"/>
                </a:lnTo>
                <a:lnTo>
                  <a:pt x="836" y="17"/>
                </a:lnTo>
                <a:lnTo>
                  <a:pt x="855" y="73"/>
                </a:lnTo>
                <a:lnTo>
                  <a:pt x="863" y="157"/>
                </a:lnTo>
                <a:lnTo>
                  <a:pt x="882" y="263"/>
                </a:lnTo>
                <a:lnTo>
                  <a:pt x="900" y="381"/>
                </a:lnTo>
                <a:lnTo>
                  <a:pt x="919" y="504"/>
                </a:lnTo>
                <a:lnTo>
                  <a:pt x="927" y="627"/>
                </a:lnTo>
                <a:lnTo>
                  <a:pt x="946" y="745"/>
                </a:lnTo>
                <a:lnTo>
                  <a:pt x="964" y="851"/>
                </a:lnTo>
                <a:lnTo>
                  <a:pt x="983" y="952"/>
                </a:lnTo>
                <a:lnTo>
                  <a:pt x="1001" y="1041"/>
                </a:lnTo>
                <a:lnTo>
                  <a:pt x="1011" y="1125"/>
                </a:lnTo>
                <a:lnTo>
                  <a:pt x="1029" y="1198"/>
                </a:lnTo>
                <a:lnTo>
                  <a:pt x="1048" y="126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29600" y="4579920"/>
            <a:ext cx="934920" cy="907920"/>
          </a:xfrm>
          <a:custGeom>
            <a:avLst/>
            <a:gdLst/>
            <a:ahLst/>
            <a:rect l="l" t="t" r="r" b="b"/>
            <a:pathLst>
              <a:path w="589" h="572">
                <a:moveTo>
                  <a:pt x="0" y="0"/>
                </a:moveTo>
                <a:lnTo>
                  <a:pt x="18" y="56"/>
                </a:lnTo>
                <a:lnTo>
                  <a:pt x="27" y="106"/>
                </a:lnTo>
                <a:lnTo>
                  <a:pt x="45" y="157"/>
                </a:lnTo>
                <a:lnTo>
                  <a:pt x="63" y="196"/>
                </a:lnTo>
                <a:lnTo>
                  <a:pt x="82" y="229"/>
                </a:lnTo>
                <a:lnTo>
                  <a:pt x="100" y="263"/>
                </a:lnTo>
                <a:lnTo>
                  <a:pt x="110" y="291"/>
                </a:lnTo>
                <a:lnTo>
                  <a:pt x="128" y="319"/>
                </a:lnTo>
                <a:lnTo>
                  <a:pt x="146" y="341"/>
                </a:lnTo>
                <a:lnTo>
                  <a:pt x="164" y="364"/>
                </a:lnTo>
                <a:lnTo>
                  <a:pt x="183" y="381"/>
                </a:lnTo>
                <a:lnTo>
                  <a:pt x="192" y="397"/>
                </a:lnTo>
                <a:lnTo>
                  <a:pt x="211" y="414"/>
                </a:lnTo>
                <a:lnTo>
                  <a:pt x="229" y="431"/>
                </a:lnTo>
                <a:lnTo>
                  <a:pt x="247" y="442"/>
                </a:lnTo>
                <a:lnTo>
                  <a:pt x="256" y="453"/>
                </a:lnTo>
                <a:lnTo>
                  <a:pt x="275" y="465"/>
                </a:lnTo>
                <a:lnTo>
                  <a:pt x="293" y="476"/>
                </a:lnTo>
                <a:lnTo>
                  <a:pt x="311" y="481"/>
                </a:lnTo>
                <a:lnTo>
                  <a:pt x="330" y="493"/>
                </a:lnTo>
                <a:lnTo>
                  <a:pt x="340" y="498"/>
                </a:lnTo>
                <a:lnTo>
                  <a:pt x="358" y="509"/>
                </a:lnTo>
                <a:lnTo>
                  <a:pt x="376" y="515"/>
                </a:lnTo>
                <a:lnTo>
                  <a:pt x="395" y="521"/>
                </a:lnTo>
                <a:lnTo>
                  <a:pt x="403" y="526"/>
                </a:lnTo>
                <a:lnTo>
                  <a:pt x="422" y="532"/>
                </a:lnTo>
                <a:lnTo>
                  <a:pt x="440" y="537"/>
                </a:lnTo>
                <a:lnTo>
                  <a:pt x="459" y="543"/>
                </a:lnTo>
                <a:lnTo>
                  <a:pt x="477" y="549"/>
                </a:lnTo>
                <a:lnTo>
                  <a:pt x="486" y="549"/>
                </a:lnTo>
                <a:lnTo>
                  <a:pt x="504" y="554"/>
                </a:lnTo>
                <a:lnTo>
                  <a:pt x="523" y="560"/>
                </a:lnTo>
                <a:lnTo>
                  <a:pt x="541" y="560"/>
                </a:lnTo>
                <a:lnTo>
                  <a:pt x="551" y="565"/>
                </a:lnTo>
                <a:lnTo>
                  <a:pt x="569" y="565"/>
                </a:lnTo>
                <a:lnTo>
                  <a:pt x="588" y="571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80280" y="2135160"/>
            <a:ext cx="120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pline line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59120" y="257976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5616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5912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5616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5912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95912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5912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27640" y="5565600"/>
            <a:ext cx="302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25764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5764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9816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55616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5616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9668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59120" y="56023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512960" y="56023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19480" y="5459400"/>
            <a:ext cx="407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59120" y="5165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512960" y="5165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19480" y="5024520"/>
            <a:ext cx="407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59120" y="47401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12960" y="47401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83720" y="459756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59120" y="4303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512960" y="4303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93280" y="41623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59120" y="387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512960" y="387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93280" y="373536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59120" y="34416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512960" y="34416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93280" y="329868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59120" y="3014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512960" y="3014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93280" y="28735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59120" y="257976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512960" y="257976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83720" y="243684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59120" y="257976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55616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5912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5616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00080" y="4659480"/>
            <a:ext cx="117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59120" y="46245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0080" y="4624560"/>
            <a:ext cx="1177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899720" y="4624560"/>
            <a:ext cx="1177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57440" y="443700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16120" y="440208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57440" y="440208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557440" y="440208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98960" y="257976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57640" y="254304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98960" y="254304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198960" y="254304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55960" y="44370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14640" y="440208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55960" y="440208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855960" y="440208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7480" y="465948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56160" y="46245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97480" y="46245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497480" y="46245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59120" y="2579760"/>
            <a:ext cx="1663560" cy="2979720"/>
          </a:xfrm>
          <a:custGeom>
            <a:avLst/>
            <a:gdLst/>
            <a:ahLst/>
            <a:rect l="l" t="t" r="r" b="b"/>
            <a:pathLst>
              <a:path w="1048" h="1877">
                <a:moveTo>
                  <a:pt x="0" y="1310"/>
                </a:moveTo>
                <a:lnTo>
                  <a:pt x="18" y="1428"/>
                </a:lnTo>
                <a:lnTo>
                  <a:pt x="36" y="1529"/>
                </a:lnTo>
                <a:lnTo>
                  <a:pt x="45" y="1618"/>
                </a:lnTo>
                <a:lnTo>
                  <a:pt x="63" y="1691"/>
                </a:lnTo>
                <a:lnTo>
                  <a:pt x="82" y="1753"/>
                </a:lnTo>
                <a:lnTo>
                  <a:pt x="100" y="1803"/>
                </a:lnTo>
                <a:lnTo>
                  <a:pt x="110" y="1837"/>
                </a:lnTo>
                <a:lnTo>
                  <a:pt x="128" y="1859"/>
                </a:lnTo>
                <a:lnTo>
                  <a:pt x="147" y="1870"/>
                </a:lnTo>
                <a:lnTo>
                  <a:pt x="165" y="1876"/>
                </a:lnTo>
                <a:lnTo>
                  <a:pt x="184" y="1870"/>
                </a:lnTo>
                <a:lnTo>
                  <a:pt x="192" y="1853"/>
                </a:lnTo>
                <a:lnTo>
                  <a:pt x="211" y="1831"/>
                </a:lnTo>
                <a:lnTo>
                  <a:pt x="229" y="1803"/>
                </a:lnTo>
                <a:lnTo>
                  <a:pt x="247" y="1769"/>
                </a:lnTo>
                <a:lnTo>
                  <a:pt x="257" y="1725"/>
                </a:lnTo>
                <a:lnTo>
                  <a:pt x="276" y="1680"/>
                </a:lnTo>
                <a:lnTo>
                  <a:pt x="294" y="1624"/>
                </a:lnTo>
                <a:lnTo>
                  <a:pt x="311" y="1568"/>
                </a:lnTo>
                <a:lnTo>
                  <a:pt x="330" y="1512"/>
                </a:lnTo>
                <a:lnTo>
                  <a:pt x="339" y="1445"/>
                </a:lnTo>
                <a:lnTo>
                  <a:pt x="358" y="1383"/>
                </a:lnTo>
                <a:lnTo>
                  <a:pt x="376" y="1310"/>
                </a:lnTo>
                <a:lnTo>
                  <a:pt x="395" y="1243"/>
                </a:lnTo>
                <a:lnTo>
                  <a:pt x="413" y="1170"/>
                </a:lnTo>
                <a:lnTo>
                  <a:pt x="422" y="1103"/>
                </a:lnTo>
                <a:lnTo>
                  <a:pt x="440" y="1030"/>
                </a:lnTo>
                <a:lnTo>
                  <a:pt x="459" y="957"/>
                </a:lnTo>
                <a:lnTo>
                  <a:pt x="477" y="885"/>
                </a:lnTo>
                <a:lnTo>
                  <a:pt x="487" y="817"/>
                </a:lnTo>
                <a:lnTo>
                  <a:pt x="505" y="745"/>
                </a:lnTo>
                <a:lnTo>
                  <a:pt x="524" y="677"/>
                </a:lnTo>
                <a:lnTo>
                  <a:pt x="542" y="610"/>
                </a:lnTo>
                <a:lnTo>
                  <a:pt x="560" y="549"/>
                </a:lnTo>
                <a:lnTo>
                  <a:pt x="569" y="487"/>
                </a:lnTo>
                <a:lnTo>
                  <a:pt x="587" y="425"/>
                </a:lnTo>
                <a:lnTo>
                  <a:pt x="606" y="375"/>
                </a:lnTo>
                <a:lnTo>
                  <a:pt x="624" y="319"/>
                </a:lnTo>
                <a:lnTo>
                  <a:pt x="633" y="269"/>
                </a:lnTo>
                <a:lnTo>
                  <a:pt x="651" y="224"/>
                </a:lnTo>
                <a:lnTo>
                  <a:pt x="670" y="185"/>
                </a:lnTo>
                <a:lnTo>
                  <a:pt x="688" y="145"/>
                </a:lnTo>
                <a:lnTo>
                  <a:pt x="707" y="112"/>
                </a:lnTo>
                <a:lnTo>
                  <a:pt x="716" y="84"/>
                </a:lnTo>
                <a:lnTo>
                  <a:pt x="735" y="56"/>
                </a:lnTo>
                <a:lnTo>
                  <a:pt x="753" y="39"/>
                </a:lnTo>
                <a:lnTo>
                  <a:pt x="771" y="22"/>
                </a:lnTo>
                <a:lnTo>
                  <a:pt x="780" y="11"/>
                </a:lnTo>
                <a:lnTo>
                  <a:pt x="799" y="0"/>
                </a:lnTo>
                <a:lnTo>
                  <a:pt x="817" y="0"/>
                </a:lnTo>
                <a:lnTo>
                  <a:pt x="835" y="0"/>
                </a:lnTo>
                <a:lnTo>
                  <a:pt x="854" y="11"/>
                </a:lnTo>
                <a:lnTo>
                  <a:pt x="864" y="22"/>
                </a:lnTo>
                <a:lnTo>
                  <a:pt x="882" y="39"/>
                </a:lnTo>
                <a:lnTo>
                  <a:pt x="900" y="56"/>
                </a:lnTo>
                <a:lnTo>
                  <a:pt x="919" y="84"/>
                </a:lnTo>
                <a:lnTo>
                  <a:pt x="927" y="112"/>
                </a:lnTo>
                <a:lnTo>
                  <a:pt x="946" y="145"/>
                </a:lnTo>
                <a:lnTo>
                  <a:pt x="964" y="185"/>
                </a:lnTo>
                <a:lnTo>
                  <a:pt x="983" y="224"/>
                </a:lnTo>
                <a:lnTo>
                  <a:pt x="1001" y="269"/>
                </a:lnTo>
                <a:lnTo>
                  <a:pt x="1010" y="319"/>
                </a:lnTo>
                <a:lnTo>
                  <a:pt x="1028" y="375"/>
                </a:lnTo>
                <a:lnTo>
                  <a:pt x="1047" y="425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21240" y="3254400"/>
            <a:ext cx="936360" cy="2305080"/>
          </a:xfrm>
          <a:custGeom>
            <a:avLst/>
            <a:gdLst/>
            <a:ahLst/>
            <a:rect l="l" t="t" r="r" b="b"/>
            <a:pathLst>
              <a:path w="590" h="1452">
                <a:moveTo>
                  <a:pt x="0" y="0"/>
                </a:moveTo>
                <a:lnTo>
                  <a:pt x="18" y="62"/>
                </a:lnTo>
                <a:lnTo>
                  <a:pt x="28" y="124"/>
                </a:lnTo>
                <a:lnTo>
                  <a:pt x="46" y="185"/>
                </a:lnTo>
                <a:lnTo>
                  <a:pt x="65" y="252"/>
                </a:lnTo>
                <a:lnTo>
                  <a:pt x="83" y="320"/>
                </a:lnTo>
                <a:lnTo>
                  <a:pt x="101" y="392"/>
                </a:lnTo>
                <a:lnTo>
                  <a:pt x="110" y="460"/>
                </a:lnTo>
                <a:lnTo>
                  <a:pt x="129" y="532"/>
                </a:lnTo>
                <a:lnTo>
                  <a:pt x="147" y="605"/>
                </a:lnTo>
                <a:lnTo>
                  <a:pt x="165" y="678"/>
                </a:lnTo>
                <a:lnTo>
                  <a:pt x="184" y="745"/>
                </a:lnTo>
                <a:lnTo>
                  <a:pt x="194" y="818"/>
                </a:lnTo>
                <a:lnTo>
                  <a:pt x="212" y="885"/>
                </a:lnTo>
                <a:lnTo>
                  <a:pt x="229" y="958"/>
                </a:lnTo>
                <a:lnTo>
                  <a:pt x="248" y="1020"/>
                </a:lnTo>
                <a:lnTo>
                  <a:pt x="258" y="1087"/>
                </a:lnTo>
                <a:lnTo>
                  <a:pt x="276" y="1143"/>
                </a:lnTo>
                <a:lnTo>
                  <a:pt x="295" y="1199"/>
                </a:lnTo>
                <a:lnTo>
                  <a:pt x="313" y="1255"/>
                </a:lnTo>
                <a:lnTo>
                  <a:pt x="331" y="1300"/>
                </a:lnTo>
                <a:lnTo>
                  <a:pt x="340" y="1344"/>
                </a:lnTo>
                <a:lnTo>
                  <a:pt x="359" y="1378"/>
                </a:lnTo>
                <a:lnTo>
                  <a:pt x="377" y="1406"/>
                </a:lnTo>
                <a:lnTo>
                  <a:pt x="395" y="1428"/>
                </a:lnTo>
                <a:lnTo>
                  <a:pt x="405" y="1445"/>
                </a:lnTo>
                <a:lnTo>
                  <a:pt x="424" y="1451"/>
                </a:lnTo>
                <a:lnTo>
                  <a:pt x="442" y="1445"/>
                </a:lnTo>
                <a:lnTo>
                  <a:pt x="461" y="1434"/>
                </a:lnTo>
                <a:lnTo>
                  <a:pt x="479" y="1412"/>
                </a:lnTo>
                <a:lnTo>
                  <a:pt x="488" y="1378"/>
                </a:lnTo>
                <a:lnTo>
                  <a:pt x="506" y="1328"/>
                </a:lnTo>
                <a:lnTo>
                  <a:pt x="525" y="1266"/>
                </a:lnTo>
                <a:lnTo>
                  <a:pt x="543" y="1193"/>
                </a:lnTo>
                <a:lnTo>
                  <a:pt x="552" y="1104"/>
                </a:lnTo>
                <a:lnTo>
                  <a:pt x="570" y="1003"/>
                </a:lnTo>
                <a:lnTo>
                  <a:pt x="589" y="885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59120" y="2579760"/>
            <a:ext cx="1663560" cy="2081160"/>
          </a:xfrm>
          <a:custGeom>
            <a:avLst/>
            <a:gdLst/>
            <a:ahLst/>
            <a:rect l="l" t="t" r="r" b="b"/>
            <a:pathLst>
              <a:path w="1048" h="1311">
                <a:moveTo>
                  <a:pt x="0" y="1310"/>
                </a:moveTo>
                <a:lnTo>
                  <a:pt x="18" y="1305"/>
                </a:lnTo>
                <a:lnTo>
                  <a:pt x="36" y="1305"/>
                </a:lnTo>
                <a:lnTo>
                  <a:pt x="45" y="1299"/>
                </a:lnTo>
                <a:lnTo>
                  <a:pt x="63" y="1299"/>
                </a:lnTo>
                <a:lnTo>
                  <a:pt x="82" y="1293"/>
                </a:lnTo>
                <a:lnTo>
                  <a:pt x="100" y="1293"/>
                </a:lnTo>
                <a:lnTo>
                  <a:pt x="110" y="1288"/>
                </a:lnTo>
                <a:lnTo>
                  <a:pt x="128" y="1288"/>
                </a:lnTo>
                <a:lnTo>
                  <a:pt x="147" y="1282"/>
                </a:lnTo>
                <a:lnTo>
                  <a:pt x="165" y="1282"/>
                </a:lnTo>
                <a:lnTo>
                  <a:pt x="184" y="1277"/>
                </a:lnTo>
                <a:lnTo>
                  <a:pt x="192" y="1271"/>
                </a:lnTo>
                <a:lnTo>
                  <a:pt x="211" y="1265"/>
                </a:lnTo>
                <a:lnTo>
                  <a:pt x="229" y="1260"/>
                </a:lnTo>
                <a:lnTo>
                  <a:pt x="247" y="1260"/>
                </a:lnTo>
                <a:lnTo>
                  <a:pt x="257" y="1254"/>
                </a:lnTo>
                <a:lnTo>
                  <a:pt x="276" y="1243"/>
                </a:lnTo>
                <a:lnTo>
                  <a:pt x="294" y="1237"/>
                </a:lnTo>
                <a:lnTo>
                  <a:pt x="311" y="1232"/>
                </a:lnTo>
                <a:lnTo>
                  <a:pt x="330" y="1226"/>
                </a:lnTo>
                <a:lnTo>
                  <a:pt x="339" y="1215"/>
                </a:lnTo>
                <a:lnTo>
                  <a:pt x="358" y="1204"/>
                </a:lnTo>
                <a:lnTo>
                  <a:pt x="376" y="1198"/>
                </a:lnTo>
                <a:lnTo>
                  <a:pt x="395" y="1187"/>
                </a:lnTo>
                <a:lnTo>
                  <a:pt x="413" y="1170"/>
                </a:lnTo>
                <a:lnTo>
                  <a:pt x="422" y="1159"/>
                </a:lnTo>
                <a:lnTo>
                  <a:pt x="440" y="1142"/>
                </a:lnTo>
                <a:lnTo>
                  <a:pt x="459" y="1125"/>
                </a:lnTo>
                <a:lnTo>
                  <a:pt x="477" y="1109"/>
                </a:lnTo>
                <a:lnTo>
                  <a:pt x="487" y="1086"/>
                </a:lnTo>
                <a:lnTo>
                  <a:pt x="505" y="1064"/>
                </a:lnTo>
                <a:lnTo>
                  <a:pt x="524" y="1041"/>
                </a:lnTo>
                <a:lnTo>
                  <a:pt x="542" y="1008"/>
                </a:lnTo>
                <a:lnTo>
                  <a:pt x="560" y="980"/>
                </a:lnTo>
                <a:lnTo>
                  <a:pt x="569" y="941"/>
                </a:lnTo>
                <a:lnTo>
                  <a:pt x="587" y="901"/>
                </a:lnTo>
                <a:lnTo>
                  <a:pt x="606" y="857"/>
                </a:lnTo>
                <a:lnTo>
                  <a:pt x="624" y="801"/>
                </a:lnTo>
                <a:lnTo>
                  <a:pt x="633" y="745"/>
                </a:lnTo>
                <a:lnTo>
                  <a:pt x="651" y="677"/>
                </a:lnTo>
                <a:lnTo>
                  <a:pt x="670" y="610"/>
                </a:lnTo>
                <a:lnTo>
                  <a:pt x="688" y="532"/>
                </a:lnTo>
                <a:lnTo>
                  <a:pt x="707" y="448"/>
                </a:lnTo>
                <a:lnTo>
                  <a:pt x="716" y="358"/>
                </a:lnTo>
                <a:lnTo>
                  <a:pt x="735" y="274"/>
                </a:lnTo>
                <a:lnTo>
                  <a:pt x="753" y="185"/>
                </a:lnTo>
                <a:lnTo>
                  <a:pt x="771" y="112"/>
                </a:lnTo>
                <a:lnTo>
                  <a:pt x="780" y="50"/>
                </a:lnTo>
                <a:lnTo>
                  <a:pt x="799" y="11"/>
                </a:lnTo>
                <a:lnTo>
                  <a:pt x="817" y="0"/>
                </a:lnTo>
                <a:lnTo>
                  <a:pt x="835" y="11"/>
                </a:lnTo>
                <a:lnTo>
                  <a:pt x="854" y="50"/>
                </a:lnTo>
                <a:lnTo>
                  <a:pt x="864" y="112"/>
                </a:lnTo>
                <a:lnTo>
                  <a:pt x="882" y="185"/>
                </a:lnTo>
                <a:lnTo>
                  <a:pt x="900" y="274"/>
                </a:lnTo>
                <a:lnTo>
                  <a:pt x="919" y="358"/>
                </a:lnTo>
                <a:lnTo>
                  <a:pt x="927" y="448"/>
                </a:lnTo>
                <a:lnTo>
                  <a:pt x="946" y="532"/>
                </a:lnTo>
                <a:lnTo>
                  <a:pt x="964" y="610"/>
                </a:lnTo>
                <a:lnTo>
                  <a:pt x="983" y="677"/>
                </a:lnTo>
                <a:lnTo>
                  <a:pt x="1001" y="745"/>
                </a:lnTo>
                <a:lnTo>
                  <a:pt x="1010" y="801"/>
                </a:lnTo>
                <a:lnTo>
                  <a:pt x="1028" y="857"/>
                </a:lnTo>
                <a:lnTo>
                  <a:pt x="1047" y="901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21240" y="4010040"/>
            <a:ext cx="936360" cy="650880"/>
          </a:xfrm>
          <a:custGeom>
            <a:avLst/>
            <a:gdLst/>
            <a:ahLst/>
            <a:rect l="l" t="t" r="r" b="b"/>
            <a:pathLst>
              <a:path w="590" h="410">
                <a:moveTo>
                  <a:pt x="0" y="0"/>
                </a:moveTo>
                <a:lnTo>
                  <a:pt x="18" y="40"/>
                </a:lnTo>
                <a:lnTo>
                  <a:pt x="28" y="79"/>
                </a:lnTo>
                <a:lnTo>
                  <a:pt x="46" y="107"/>
                </a:lnTo>
                <a:lnTo>
                  <a:pt x="65" y="140"/>
                </a:lnTo>
                <a:lnTo>
                  <a:pt x="83" y="163"/>
                </a:lnTo>
                <a:lnTo>
                  <a:pt x="101" y="185"/>
                </a:lnTo>
                <a:lnTo>
                  <a:pt x="110" y="208"/>
                </a:lnTo>
                <a:lnTo>
                  <a:pt x="129" y="224"/>
                </a:lnTo>
                <a:lnTo>
                  <a:pt x="147" y="241"/>
                </a:lnTo>
                <a:lnTo>
                  <a:pt x="165" y="258"/>
                </a:lnTo>
                <a:lnTo>
                  <a:pt x="184" y="269"/>
                </a:lnTo>
                <a:lnTo>
                  <a:pt x="194" y="286"/>
                </a:lnTo>
                <a:lnTo>
                  <a:pt x="212" y="297"/>
                </a:lnTo>
                <a:lnTo>
                  <a:pt x="229" y="303"/>
                </a:lnTo>
                <a:lnTo>
                  <a:pt x="248" y="314"/>
                </a:lnTo>
                <a:lnTo>
                  <a:pt x="258" y="325"/>
                </a:lnTo>
                <a:lnTo>
                  <a:pt x="276" y="331"/>
                </a:lnTo>
                <a:lnTo>
                  <a:pt x="295" y="336"/>
                </a:lnTo>
                <a:lnTo>
                  <a:pt x="313" y="342"/>
                </a:lnTo>
                <a:lnTo>
                  <a:pt x="331" y="353"/>
                </a:lnTo>
                <a:lnTo>
                  <a:pt x="340" y="359"/>
                </a:lnTo>
                <a:lnTo>
                  <a:pt x="359" y="359"/>
                </a:lnTo>
                <a:lnTo>
                  <a:pt x="377" y="364"/>
                </a:lnTo>
                <a:lnTo>
                  <a:pt x="395" y="370"/>
                </a:lnTo>
                <a:lnTo>
                  <a:pt x="405" y="376"/>
                </a:lnTo>
                <a:lnTo>
                  <a:pt x="424" y="381"/>
                </a:lnTo>
                <a:lnTo>
                  <a:pt x="442" y="381"/>
                </a:lnTo>
                <a:lnTo>
                  <a:pt x="461" y="387"/>
                </a:lnTo>
                <a:lnTo>
                  <a:pt x="479" y="387"/>
                </a:lnTo>
                <a:lnTo>
                  <a:pt x="488" y="392"/>
                </a:lnTo>
                <a:lnTo>
                  <a:pt x="506" y="392"/>
                </a:lnTo>
                <a:lnTo>
                  <a:pt x="525" y="398"/>
                </a:lnTo>
                <a:lnTo>
                  <a:pt x="543" y="398"/>
                </a:lnTo>
                <a:lnTo>
                  <a:pt x="552" y="404"/>
                </a:lnTo>
                <a:lnTo>
                  <a:pt x="570" y="404"/>
                </a:lnTo>
                <a:lnTo>
                  <a:pt x="589" y="409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40720" y="2135160"/>
            <a:ext cx="169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inomio grado 4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191120" y="5867280"/>
          <a:ext cx="1600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5867280"/>
                    <a:ext cx="1600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Perfil para un diseño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15" name="pajaro1" descr=""/>
          <p:cNvPicPr/>
          <p:nvPr/>
        </p:nvPicPr>
        <p:blipFill>
          <a:blip r:embed="rId1"/>
          <a:srcRect l="1108" t="6313" r="1108" b="4209"/>
          <a:stretch/>
        </p:blipFill>
        <p:spPr>
          <a:xfrm>
            <a:off x="1066680" y="1981080"/>
            <a:ext cx="4419720" cy="2578320"/>
          </a:xfrm>
          <a:prstGeom prst="rect">
            <a:avLst/>
          </a:prstGeom>
          <a:ln w="0">
            <a:noFill/>
          </a:ln>
        </p:spPr>
      </p:pic>
      <p:pic>
        <p:nvPicPr>
          <p:cNvPr id="416" name="pajaro2" descr=""/>
          <p:cNvPicPr/>
          <p:nvPr/>
        </p:nvPicPr>
        <p:blipFill>
          <a:blip r:embed="rId2"/>
          <a:srcRect l="1675" t="3608" r="2233" b="3608"/>
          <a:stretch/>
        </p:blipFill>
        <p:spPr>
          <a:xfrm>
            <a:off x="4952880" y="1981080"/>
            <a:ext cx="4341960" cy="2594160"/>
          </a:xfrm>
          <a:prstGeom prst="rect">
            <a:avLst/>
          </a:prstGeom>
          <a:ln w="0">
            <a:noFill/>
          </a:ln>
        </p:spPr>
      </p:pic>
      <p:pic>
        <p:nvPicPr>
          <p:cNvPr id="417" name="tabla" descr=""/>
          <p:cNvPicPr/>
          <p:nvPr/>
        </p:nvPicPr>
        <p:blipFill>
          <a:blip r:embed="rId3">
            <a:lum contrast="12000"/>
          </a:blip>
          <a:srcRect l="0" t="1102" r="1059" b="0"/>
          <a:stretch/>
        </p:blipFill>
        <p:spPr>
          <a:xfrm>
            <a:off x="1066680" y="5286240"/>
            <a:ext cx="8382240" cy="1101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09588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Arial"/>
              </a:rPr>
              <a:t>Polinomio interpolado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3T19:26:13Z</dcterms:created>
  <dc:creator>A.P.D.</dc:creator>
  <dc:description/>
  <dc:language>en-US</dc:language>
  <cp:lastModifiedBy>jgomez</cp:lastModifiedBy>
  <cp:lastPrinted>2001-03-22T11:31:44Z</cp:lastPrinted>
  <dcterms:modified xsi:type="dcterms:W3CDTF">2003-03-20T14:55:35Z</dcterms:modified>
  <cp:revision>44</cp:revision>
  <dc:subject/>
  <dc:title>Interpolacion Polinomica Segmentaria: Splines</dc:title>
</cp:coreProperties>
</file>