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DD65-F5B7-4E4E-937C-898DF407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578-D8BB-4C4D-8E93-91230B71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A1EE-6A21-42AD-9438-104D25FF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E71-B457-4895-B9CE-604B377C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927-D00D-492A-8AF7-A3B0740B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AA0-E7CE-400C-9AEF-1377640B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5219-4F32-4EA7-9BEA-09B226EB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E8D-481F-4E6F-9634-181A4FCD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D73-B05D-476B-8A3C-82CD8F9D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285-C344-4D38-A419-CC34A183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F78-A834-40E2-A37F-FC5650C4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EB7-FFD3-498F-87D0-FC008D5B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804F-5026-4695-8317-4F819A27E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20640"/>
            <a:ext cx="7772400" cy="83844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Comic Sans MS"/>
              </a:rPr>
              <a:t>Predición de SO</a:t>
            </a:r>
            <a:r>
              <a:rPr b="1" lang="es-ES" sz="27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76720" y="2276640"/>
            <a:ext cx="5688000" cy="3600000"/>
            <a:chOff x="3276720" y="2276640"/>
            <a:chExt cx="5688000" cy="3600000"/>
          </a:xfrm>
        </p:grpSpPr>
        <p:sp>
          <p:nvSpPr>
            <p:cNvPr id="43" name=""/>
            <p:cNvSpPr/>
            <p:nvPr/>
          </p:nvSpPr>
          <p:spPr>
            <a:xfrm>
              <a:off x="3276720" y="2982960"/>
              <a:ext cx="5688000" cy="20455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3421080" y="2276640"/>
              <a:ext cx="5400720" cy="3600000"/>
              <a:chOff x="3421080" y="2276640"/>
              <a:chExt cx="5400720" cy="3600000"/>
            </a:xfrm>
          </p:grpSpPr>
          <p:sp>
            <p:nvSpPr>
              <p:cNvPr id="45" name=""/>
              <p:cNvSpPr/>
              <p:nvPr/>
            </p:nvSpPr>
            <p:spPr>
              <a:xfrm>
                <a:off x="5148360" y="5311800"/>
                <a:ext cx="1944720" cy="5648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sultad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716720" y="2276640"/>
                <a:ext cx="2808360" cy="5644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Comic Sans MS"/>
                  </a:rPr>
                  <a:t>Sistema de Predició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329440" y="3405960"/>
                <a:ext cx="1584360" cy="11293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Comic Sans MS"/>
                  </a:rPr>
                  <a:t>Predición Bina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237440" y="3441600"/>
                <a:ext cx="1584360" cy="10580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Comic Sans MS"/>
                  </a:rPr>
                  <a:t>Predición Espac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421080" y="3405960"/>
                <a:ext cx="1584360" cy="11293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Comic Sans MS"/>
                  </a:rPr>
                  <a:t>Predición Puntu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"/>
          <p:cNvSpPr/>
          <p:nvPr/>
        </p:nvSpPr>
        <p:spPr>
          <a:xfrm>
            <a:off x="250920" y="1773360"/>
            <a:ext cx="2305080" cy="1296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ATOS proporcionados pola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50" idx="3"/>
            <a:endCxn id="46" idx="1"/>
          </p:cNvCxnSpPr>
          <p:nvPr/>
        </p:nvCxnSpPr>
        <p:spPr>
          <a:xfrm>
            <a:off x="2556000" y="2421720"/>
            <a:ext cx="2161080" cy="1375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2" name=""/>
          <p:cNvCxnSpPr>
            <a:stCxn id="46" idx="2"/>
            <a:endCxn id="49" idx="0"/>
          </p:cNvCxnSpPr>
          <p:nvPr/>
        </p:nvCxnSpPr>
        <p:spPr>
          <a:xfrm rot="5400000">
            <a:off x="4884120" y="2169720"/>
            <a:ext cx="565200" cy="1908000"/>
          </a:xfrm>
          <a:prstGeom prst="bentConnector3">
            <a:avLst>
              <a:gd name="adj1" fmla="val 50031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3" name=""/>
          <p:cNvCxnSpPr>
            <a:stCxn id="46" idx="2"/>
            <a:endCxn id="47" idx="0"/>
          </p:cNvCxnSpPr>
          <p:nvPr/>
        </p:nvCxnSpPr>
        <p:spPr>
          <a:xfrm>
            <a:off x="6120720" y="2841120"/>
            <a:ext cx="1080" cy="565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4" name=""/>
          <p:cNvCxnSpPr>
            <a:stCxn id="46" idx="2"/>
            <a:endCxn id="48" idx="0"/>
          </p:cNvCxnSpPr>
          <p:nvPr/>
        </p:nvCxnSpPr>
        <p:spPr>
          <a:xfrm flipH="1" rot="16200000">
            <a:off x="6774840" y="2187000"/>
            <a:ext cx="600840" cy="19090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5" name=""/>
          <p:cNvCxnSpPr>
            <a:stCxn id="49" idx="2"/>
            <a:endCxn id="45" idx="0"/>
          </p:cNvCxnSpPr>
          <p:nvPr/>
        </p:nvCxnSpPr>
        <p:spPr>
          <a:xfrm flipH="1" rot="16200000">
            <a:off x="4778640" y="3969360"/>
            <a:ext cx="776880" cy="1908000"/>
          </a:xfrm>
          <a:prstGeom prst="bentConnector3">
            <a:avLst>
              <a:gd name="adj1" fmla="val 49976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6" name=""/>
          <p:cNvCxnSpPr>
            <a:stCxn id="47" idx="2"/>
            <a:endCxn id="45" idx="0"/>
          </p:cNvCxnSpPr>
          <p:nvPr/>
        </p:nvCxnSpPr>
        <p:spPr>
          <a:xfrm flipH="1">
            <a:off x="6120720" y="4535280"/>
            <a:ext cx="1080" cy="776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7" name=""/>
          <p:cNvCxnSpPr>
            <a:stCxn id="48" idx="2"/>
            <a:endCxn id="45" idx="0"/>
          </p:cNvCxnSpPr>
          <p:nvPr/>
        </p:nvCxnSpPr>
        <p:spPr>
          <a:xfrm rot="5400000">
            <a:off x="6669000" y="3951360"/>
            <a:ext cx="812520" cy="19090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58" name=""/>
          <p:cNvSpPr/>
          <p:nvPr/>
        </p:nvSpPr>
        <p:spPr>
          <a:xfrm>
            <a:off x="539640" y="5373720"/>
            <a:ext cx="2016360" cy="865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perarios da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8" idx="3"/>
            <a:endCxn id="45" idx="1"/>
          </p:cNvCxnSpPr>
          <p:nvPr/>
        </p:nvCxnSpPr>
        <p:spPr>
          <a:xfrm flipV="1">
            <a:off x="2556000" y="5594040"/>
            <a:ext cx="2592720" cy="212400"/>
          </a:xfrm>
          <a:prstGeom prst="bentConnector3">
            <a:avLst>
              <a:gd name="adj1" fmla="val 50006"/>
            </a:avLst>
          </a:prstGeom>
          <a:ln w="19080">
            <a:solidFill>
              <a:srgbClr val="99cc00"/>
            </a:solidFill>
            <a:miter/>
            <a:tailEnd len="lg" type="triangle" w="lg"/>
          </a:ln>
        </p:spPr>
      </p:cxnSp>
      <p:sp>
        <p:nvSpPr>
          <p:cNvPr id="60" name=""/>
          <p:cNvSpPr/>
          <p:nvPr/>
        </p:nvSpPr>
        <p:spPr>
          <a:xfrm>
            <a:off x="179280" y="357336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. semiparamétricos, mod. parcialmente lineais, redes neurona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13000"/>
            <a:ext cx="2987640" cy="15843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1" idx="6"/>
            <a:endCxn id="43" idx="1"/>
          </p:cNvCxnSpPr>
          <p:nvPr/>
        </p:nvCxnSpPr>
        <p:spPr>
          <a:xfrm>
            <a:off x="2987640" y="4005360"/>
            <a:ext cx="289440" cy="7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6:51:07Z</dcterms:created>
  <dc:creator> </dc:creator>
  <dc:description/>
  <dc:language>en-US</dc:language>
  <cp:lastModifiedBy>mapila</cp:lastModifiedBy>
  <dcterms:modified xsi:type="dcterms:W3CDTF">2007-06-19T17:29:25Z</dcterms:modified>
  <cp:revision>3</cp:revision>
  <dc:subject/>
  <dc:title>Diapositiva 1</dc:title>
</cp:coreProperties>
</file>